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tif" ContentType="image/tiff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9.jpeg" ContentType="image/jpeg"/>
  <Override PartName="/ppt/media/image11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30.png" ContentType="image/png"/>
  <Override PartName="/ppt/media/image28.png" ContentType="image/png"/>
  <Override PartName="/ppt/media/image20.tif" ContentType="image/tif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32.tif" ContentType="image/tiff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D182-5D5A-48B3-A21A-9A3291EC9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4258-773F-4E5D-98F3-0F5889B6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C4D319-A4A5-470A-8C93-C4426C4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529F19-CBD6-47CA-92AB-DBE3E6AF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99176B-656A-43F8-9D52-1C326099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EA5CED-A2B7-4557-BAB7-456289AD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7546C5-BC40-414F-B91B-C12C469E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AA361E-B46A-417A-BF20-A5EF0367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EC9FED-0D50-42F3-A024-D9D88BCB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61F4DF-61B5-4B20-8976-4AA14CD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773FA8-7F5C-4EEE-90E8-7A88D54135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2A605-3F5F-4BF7-939D-C8F8896C09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1CB0-347E-407C-B691-92B55FB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8C3FC-2649-416D-86DE-4899B0CE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BE6E-1841-4AAD-9253-C6404B58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CAC5A-1822-4E43-AD35-BE237E29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A9C4-3E3D-4057-A086-01016B23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51DB-C0DC-49B8-98A4-C3FDBE23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B5BAB-B1EE-4A96-9176-98F4234D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4DBC1-881A-4621-9DD3-FC42250E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24726-C4B0-45DD-A09F-F45FDCE4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192B5-B743-4ECC-AF3D-7710FB1F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9FCA2-B775-4991-B603-90B652B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2619-EDD9-4C7A-B51A-74003DB26B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41E5E-487F-4777-8833-95C1D2A93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F2FDC-EB19-4BD5-A7D9-B336F00F7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26960-0DF2-4276-BA8D-A29B5FFB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C19DC5-4F79-4887-84E8-9FF3DCC7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657254-68C6-4D7D-BCDB-09BDD20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099E45-1706-42C5-8FD0-88407EE3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B04A4-A160-49E4-B82D-42B0CD04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F7AD0-C24D-4D3C-90C8-E0593F27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62064C-5E7F-4EDC-9627-A6423BB6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8737D-BF6F-4BC6-9138-28A9531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2045F-5C7E-4271-BE39-073DF35E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A4EE2A-6FA9-4BD2-A202-7BB7A13A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7D06A-EC71-4BB5-8D84-DFE19CB2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CCE735-7F34-4A90-84B8-BC6A2C67D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82E6A-A76E-4422-BD94-5FF5199BA4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A0F6B-7921-4238-B0DD-E2B1CCF8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50C2F-952B-47FA-84EB-2E1E039C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6577F-E449-49D4-B5C8-0F71C205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EAD1B-69A3-456E-93B3-93CCB6FD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D6418-AFD0-490F-A4A5-4FED5EC4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71C95-3EB0-445A-BB76-7A26E647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73CCA-DC42-40C1-BEFC-FF349553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275AB-7BF8-423C-99D4-940CBD6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4D01E-AF0C-4E47-8BBE-7A581BC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CF7E9-BD6A-402D-949C-E5CE2DCA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E9D80-470A-422A-83FC-FCF80F38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DBCB4-75DA-456F-94F5-A87B76835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831F5-81BA-4CD8-803F-DBAE811D02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FF62-C071-41EB-A11C-1AF4BA5D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D680B-F688-489E-BF50-DD1657C0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13BFA-E84F-4047-9D23-B7DAEB3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41B18-B9F4-4C80-8A18-7A919768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2D67D-9B8C-462E-8021-CAD9930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719B9-F3CA-4041-9829-6222E69A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38E75-2DC9-4F5A-8774-696A7DED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10E8F-5D8F-4DCC-B359-0465D852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D4067-D648-4273-A3D4-91169112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19E35-8D32-4167-B9A0-16AE2579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9BF0C-BD2C-4FF5-B42E-FE68C532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8F72C-548C-4B07-A14E-6121547884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EC0A6-A314-41D0-9CB0-71ED3A19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E4930-D641-4377-8D11-F908064F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1B9EA-3B88-4B41-A46C-DD8C4EA4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EC40-3B18-4CE6-B561-3CEAE08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2AC8C-AA63-48A3-824D-AD304B17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0CEBD-A082-43D7-AC3D-5C9EDA6A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38F77-D419-4D67-92A2-BF69CC75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FD492-DDDC-4D20-B200-3F673728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5A1EF-F5E9-4233-8E55-CC931EDE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CA9A-8421-46A9-BFFF-250068E5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9BE3E-3FE5-4D7B-9B13-CFAD6EFA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2584-9FB5-456E-A7AF-2B723BF0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2C087-6460-4150-B796-6D919776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D61D5-7EEE-46B9-99C4-D54FB9EB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34FDD-6D26-47E2-86CD-E93422AE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7CA6A-6306-4F01-91F0-AE6BF3E2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DB1D-0E64-4A95-873E-DE29ABC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FDED2-DB9A-45DE-86FF-B0CCB7FB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5915B-0A30-4772-86C4-AF2CE0B7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FE615-0FE7-4542-A628-E55B7979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6035-AFD3-4DD1-A382-BBA913A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5556B-DB60-4B03-AF81-9B8F3844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9529C-1835-415B-AA02-118448C2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0EB0C-79A0-4687-948B-EDED8A4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FF27F-3BE2-435C-9B40-F5FF4CC4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9B937-65F4-4A04-BDFF-84E151FE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1CCEE-C7A6-41C0-931F-447FB7E7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6E658-891E-4D82-8446-DE06784F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A957C-9EF3-4220-8D35-BF4029FF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B948A-D18E-4880-BC56-1465A648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B2DBF-2C75-4579-9F31-6A3EAFC0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722F0-3C3B-45E3-B3CC-672E349E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58F5E-467A-4659-A85B-EBAD90F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24692-ADAB-4BCF-A83F-60118807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7D624-5B4E-47C9-A995-75684B2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41F16-8D5F-41EC-9621-B60BC9F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B0F26-CEFD-45CA-B12F-F72CB92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C6A97-C149-44F6-B766-29EEE27C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F6A87-F381-42B7-81AE-B3677547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87D78-8629-4532-AF6E-40C1F2F9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32223-2BDB-4488-B931-5D7A61DC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92A2A-169C-4FEE-92F8-7649AF2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96B8C-18DC-4565-842B-52F0D30C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63459-41E0-40EE-BB44-61C22863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8B1E9-66CD-485A-889C-6CAFAAC4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D3471-949C-46C5-843C-923145A2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128BC-A521-44A0-99C9-FCF23DE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B2BA-CB22-434A-8BD2-F97825C5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76789-DE25-433D-BCBB-F624C685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23450-DE49-41EC-853D-6FB330FF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978B5-2EAC-4FCA-9480-8F555CE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F8155-228D-408A-9C14-CFC91A2D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E3764-60C1-436B-A867-E73B2D6C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E5F86-70F6-4546-BDB4-53845402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7E9A5-8AD6-45CE-93FE-C3491F73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B1BEF-BAC3-4A71-A263-37B28442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FB62F-F328-497D-90F9-223B2E6E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A3202-354D-443B-8BD9-00C16A19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99499-DC8A-4176-9F96-EB97BFAF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76658-C0CD-4F10-A745-DD6DB2B4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78B27-2013-463B-BDAF-3BCBEECA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7EDF8-088C-410C-ADB7-07305B37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91ACA-ED49-46BC-9942-D308EF9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993AC-2CBB-4983-B794-B5D7ED92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9CEB2-50FD-4E79-B7B1-6B0527A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DB28D-506A-4B9E-BE3B-E72AB911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84038-58C3-42A0-9E17-4A7616D1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3468B-7A87-48AD-9CBC-E54843AA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36925-91B4-46C1-B86B-09F4208A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C17A1-1B30-4DC7-8857-FA55ED89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1A14D-30BE-4177-A700-ADC8AC79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6203D8-218C-4A5D-B7A6-427F21BA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6A926-2CCA-483D-B200-866FD36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42F5D-9D60-43B0-B17E-B8CFCB21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F7854-88DE-4B5E-8B59-CD177C57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974F8-ED63-469C-9014-B906EEAB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BB9BD-6254-4DF3-B636-57DEC45E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00A0E-CF04-45E0-8318-A9C54A33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E1F32-10CC-4844-925B-E19A5094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F9018-55B1-4AE4-B31C-59956CA0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786E8-7FF7-4A7D-A40F-845BBEDE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EF3CE-E791-40C1-B34A-1D384FA6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17F19-BC18-4E33-AA4F-7EA80C25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B422F-74F2-446C-B900-782E5A45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C97F0-FBA6-4E33-BF07-B3C16127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D418F-6A4C-42DA-AF12-BC3AFE3C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3F296-10E9-409F-9317-87F9FA3E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422C0-576A-45DF-BCC4-D113ABCA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881AB-5E08-43C4-AFBE-CE707ADF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9987F-1011-4A75-88CC-32AC406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F2FBA-0E71-43EF-8BA9-2C492572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5EFAE-FB9B-4969-9E1D-E14082AD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B7EB2-DBD8-436A-B512-043F01AD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161E9-0015-4DD7-ABBC-AA8A9F2F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60D9C-98A3-4857-AD63-D34B9BDB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B825B-7A86-4626-83C5-E022199D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36C9D-608D-444F-80A3-7F5D939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479F4-58A0-4FA9-A108-BDCAD622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4BBE1-140B-4B9C-A49D-23F0EEDA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FA7FE-AF97-4036-BD92-A5FACC92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6BBEF-2CFC-4A90-AED7-BC43C9CA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DFD8F-5284-4706-BCE1-CAA928E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9FD26-A0E4-4692-8DAE-239015F8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B2072-1D54-4C73-96DB-9F4ADF1899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02A21-BE2A-40D4-AF5F-3E1C00C2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5EAE8-22AF-4C17-AA55-1ECE2625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3A824-2BF8-4FCD-8523-250C374E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49263-ED57-42E5-9078-C93AF729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60588B-A713-4628-B304-297CDAEE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15982-6419-42C7-B290-216C3F0F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CB369-3CF1-4483-820C-6AD63A81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1770D-E657-424C-99AE-9FAFF652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E92B2-3F07-4CD1-9CC6-16982C78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41DED-CBEB-4B60-B1E1-BCEDF32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A71529-1077-4D0B-B409-0AA87952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A063B-2AEA-4293-8190-CD96956D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4BB12-FF4F-4F19-8158-16247DE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55F2C7-E94E-496A-8897-00B8D2A7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D8342-8EFB-4DE1-B4B3-B48FB23C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D63C1-0169-4C09-B5F2-350CAA62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24F40-5173-4E99-BE08-61D76DB4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0BD355-4F00-4C0D-B156-63E8271E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1B524-774D-4B88-BAD6-A8FBA169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81E1B5-9035-4FD5-A126-9477EC3E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0DF87-AA82-4F9E-B34B-8D88DCE3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53F2B-DFD8-4EC8-8C65-F0A56DC8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BE897-0020-49CD-B005-F7113B6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E25D1-0DFA-499D-A0C7-A8D858D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06ACC-BB3D-432F-96AC-F5C1B53B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9D48E-A4B6-47C6-922F-3E7A13E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97A1D-8AD3-491D-884F-D81A12F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89220-CE6A-437F-9EC2-3D4F61FB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6D6EE-5D43-4D63-8BA5-F5646387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8F10A3-9A7B-4A97-88D7-3571D8E3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72B8C-C4E0-4FB3-A122-7EB8991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050B6-7F78-47A0-A44C-D48F0D7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19BC7-0631-4587-B76A-C33D71DE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10E07-C811-4131-A35F-6D01B2DD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2155B-0132-4D26-9DC2-5CA39E6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93FE6-01E9-4AB2-A54B-394F526E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83410-8F03-4DF8-BD45-673E879B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1DF58-F8A9-457D-BFDA-BCB4D314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3D0D1-36B0-4004-8BDA-239C940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5D62C-7F6D-4D49-9FBC-A3B4C8B1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4B1D9-A2E6-4C49-A057-1239FC45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DB5A8-5E5D-42FA-B55E-50198245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190C9-53DC-47D3-B9EB-C8465C44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891C-AC50-4BC6-BF5A-8DC81FC3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5C193-3BF2-4C44-8B6A-E6A21085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16BE9-51EE-4888-964C-EA267206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22FEA-1166-4F38-B9B3-0137ED07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C8B44-C15A-4E43-9304-E4CAB6CB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BF1D8-BEE3-4B58-8FAA-D6F476D0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7B8CB-A201-4FE3-8868-6DF6875D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22E7BE-4E6B-4C0C-A5BB-163537FDF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542A-FF14-49B4-BF9F-FE5BC21733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1C81-088A-41D7-BE74-98BEC86B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4497-6B31-4C93-A30F-EAA2E47B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5238-958F-4110-BED8-EE52A70B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D0D1-AC4E-43F9-8A80-37ADEA17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86A8-8B21-4C7E-AFAA-5799461E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D26C-BD71-4F88-A509-8CD2B917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2F9F-AEF6-4D36-9AA8-4BBCD6AC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6E1E-353E-43B7-BAA5-A18A102F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F4DC-A4CA-4B94-92E5-34391FB6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828E-098A-4271-A139-AD5A6FAF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38F9-9D62-4CF6-8D51-CA7C23F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CD79-2E9D-427B-9A44-C420D37358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4AA69-8627-4EDB-80B9-108CA0AF70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030E-AB8B-4DAF-A093-838A30B8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5E3E9-BA25-43A5-9261-7EF63DCC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53B58-2781-47EA-B3D3-7992C392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C80FD-4244-4CD5-8A87-514C4FF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3E5EF-B2C7-440D-9DAC-0EB976ED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E10CD-0F7B-482B-9AAD-E374D1EC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35C91-3BC2-481C-8BB0-A5941C4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11D6F-2C84-4CD5-9CD2-EC9CA3ED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5D1BB-C1D3-4015-AAD3-E7D2276C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9EEF7-4DC3-4CC1-8B07-AEB634AD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F0F3B-1372-4DBE-BD42-338D543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038D-98E2-4CAF-8430-CD4C7784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EA8DA-75F0-4690-BFBA-AB315FFA2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236B10-EE26-432E-AAEA-A75CDDFA0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A8AA3D-293D-40D1-A21D-63995625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5BDB7-87CA-46A6-A92D-D246AE55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7FB96C-8DE2-44D8-8580-9310B17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94A31-54B4-4EBD-A773-D363C0BC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8683B-3120-4D30-82B3-BA838610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9988AE-A958-49F3-B73E-0BD6CDDB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6CA731-FED7-4183-A1A9-48D10A9A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CA6A1C-76BD-44CF-BBDC-A6E57E47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655C-B4A0-4FE4-AF8D-66B9C142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5D304-BFAD-49BD-B30D-508F6FAB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CCD72-E3C2-43F8-B849-B38042E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8BA67-DEB7-4983-B732-F3FD4A56C0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442B-19C2-4C51-9E9D-B46A616E1D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23F39-0CE3-4557-BC30-D7865E48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572A5-1C9F-484B-B2BB-EDBC58D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08B83-DF74-4E11-A2E3-DFC7CD7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9C212-0AC9-4259-812F-A6F4AF78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99723-B8AA-40B5-BFD2-FE24CE62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E4C8-9AD6-444C-B084-AED523A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0925-6AB1-4033-8084-ED41DDD5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58E05-9471-47D6-85C6-5BA65981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2F5C1-EA3A-4D32-AFD5-D9CE6F5E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34F6-33C8-4E25-A8B0-84103CEC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BCFD5-52A9-453E-A44D-F61F7BE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D8F4-6773-40FC-BF15-1C6D718D79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1016D-13E0-4818-B2C9-AB84BA5F61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58B2A-2980-4AB1-A25B-931F0B32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0FB94-9BD0-446C-B6CD-B7E8697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97F5B-4F47-4103-A825-A6002BBD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EA6C2-FDEF-4DDD-A9FA-1B193255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CD4B-ADE2-4E7F-BD41-A5EA9EAF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CFE89-BE25-47BC-8B57-3F2ABCA0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A6AA6-E76E-4B7A-A102-002EA6BE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0EDF0-AA46-4C04-89EF-4C1C7F58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DDC36-D879-4CBA-9C10-5473EB0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D3FDF-269F-48C6-92C0-E401A40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8BAD8-25BD-4416-AFEC-04360F74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5CA01-58B8-4C5B-9706-A85B0808D2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5FF1AA-265F-478C-8BC5-6BC02BF4F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1BB805-0004-4CC9-91E7-DFC98D28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D32CF5-5B32-49B6-8857-D3920117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C6E1-5756-4689-8C41-1809D4D20C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6FFB-C533-4861-9378-F71FB812F3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068-38E1-4CDC-8236-6FED9B055D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E14C-3112-4094-A0B8-62652E007E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721-F8B7-40CD-B8E7-B1DE351EDC4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A276-A1AC-4E84-8686-C60E754AAD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BC9C-5129-41C8-8969-FBB04B383D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C32B-A456-4DF6-BE70-8F678034F46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FA83-3919-41BA-9B14-4A361F2C77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D362-356B-4F30-AC4F-8FC7BC8645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452F-F01E-4D17-9BEC-3F35E3C0C2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FA8E-C472-416F-83CD-39A4A32431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61EB-0CD0-4F88-BB3F-7C418BA3F6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BE69-7541-49F6-B38B-7BAD58CC1CB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68CD-FC27-429E-8F65-5937D8B1541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3E74-FB82-466E-824C-7E3A930AC8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E377-2ACF-4F6B-A80A-3E6359AE03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DB9F-82FD-4A57-A2CD-363C964745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02D6-7282-4C49-95F1-E4D2B59E7D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8271-10AA-49FD-99D3-9607D05F9A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352-C1A7-48E2-AB09-C53470C9DA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258B-6E8B-420E-B488-FF70AB1ED7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F2A7-C118-434F-A456-A07FD7C0E6B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B376-9F06-4E29-A5C8-4363D7E39F2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ti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jpeg"/><Relationship Id="rId3" Type="http://schemas.openxmlformats.org/officeDocument/2006/relationships/image" Target="../media/image24.tif"/><Relationship Id="rId4" Type="http://schemas.openxmlformats.org/officeDocument/2006/relationships/image" Target="../media/image19.jpeg"/><Relationship Id="rId5" Type="http://schemas.openxmlformats.org/officeDocument/2006/relationships/image" Target="../media/image21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gif"/><Relationship Id="rId9" Type="http://schemas.openxmlformats.org/officeDocument/2006/relationships/image" Target="../media/image32.tif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865160" y="270360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1322280" y="2652840"/>
            <a:ext cx="71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口 算 两 位 数 加 两 位 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6284880" cy="360"/>
            <a:chOff x="2284560" y="2448000"/>
            <a:chExt cx="6284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6284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628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25440" y="1744560"/>
            <a:ext cx="92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内的加法和减法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1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21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29" name="文本框 99"/>
          <p:cNvSpPr/>
          <p:nvPr/>
        </p:nvSpPr>
        <p:spPr>
          <a:xfrm>
            <a:off x="441360" y="947880"/>
            <a:ext cx="8400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两位数加法时，要从（　　 ）位加起，当个位满（　　 ），要向（　　）位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个位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得（　　　），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　）位进（　　　）。十位上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　），得（　　　），此题计算结果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文本框 1"/>
          <p:cNvSpPr/>
          <p:nvPr/>
        </p:nvSpPr>
        <p:spPr>
          <a:xfrm>
            <a:off x="5235480" y="1773360"/>
            <a:ext cx="6526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文本框 2"/>
          <p:cNvSpPr/>
          <p:nvPr/>
        </p:nvSpPr>
        <p:spPr>
          <a:xfrm>
            <a:off x="1650960" y="2422440"/>
            <a:ext cx="650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3"/>
          <p:cNvSpPr/>
          <p:nvPr/>
        </p:nvSpPr>
        <p:spPr>
          <a:xfrm>
            <a:off x="4246560" y="2422440"/>
            <a:ext cx="6523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文本框 4"/>
          <p:cNvSpPr/>
          <p:nvPr/>
        </p:nvSpPr>
        <p:spPr>
          <a:xfrm>
            <a:off x="6076800" y="3065400"/>
            <a:ext cx="6526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文本框 6"/>
          <p:cNvSpPr/>
          <p:nvPr/>
        </p:nvSpPr>
        <p:spPr>
          <a:xfrm>
            <a:off x="1076400" y="3735360"/>
            <a:ext cx="650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文本框 8"/>
          <p:cNvSpPr/>
          <p:nvPr/>
        </p:nvSpPr>
        <p:spPr>
          <a:xfrm>
            <a:off x="3594240" y="3670200"/>
            <a:ext cx="6523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文本框 9"/>
          <p:cNvSpPr/>
          <p:nvPr/>
        </p:nvSpPr>
        <p:spPr>
          <a:xfrm>
            <a:off x="1216080" y="4354560"/>
            <a:ext cx="6523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文本框 12"/>
          <p:cNvSpPr/>
          <p:nvPr/>
        </p:nvSpPr>
        <p:spPr>
          <a:xfrm>
            <a:off x="3733920" y="4354560"/>
            <a:ext cx="6523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文本框 14"/>
          <p:cNvSpPr/>
          <p:nvPr/>
        </p:nvSpPr>
        <p:spPr>
          <a:xfrm>
            <a:off x="1216080" y="5013360"/>
            <a:ext cx="6523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9" name="组合 2"/>
          <p:cNvGrpSpPr/>
          <p:nvPr/>
        </p:nvGrpSpPr>
        <p:grpSpPr>
          <a:xfrm>
            <a:off x="-42840" y="101520"/>
            <a:ext cx="3244680" cy="525600"/>
            <a:chOff x="-42840" y="101520"/>
            <a:chExt cx="3244680" cy="525600"/>
          </a:xfrm>
        </p:grpSpPr>
        <p:pic>
          <p:nvPicPr>
            <p:cNvPr id="134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764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1" name="组合 4"/>
            <p:cNvGrpSpPr/>
            <p:nvPr/>
          </p:nvGrpSpPr>
          <p:grpSpPr>
            <a:xfrm>
              <a:off x="-42840" y="197280"/>
              <a:ext cx="429840" cy="271800"/>
              <a:chOff x="-42840" y="197280"/>
              <a:chExt cx="429840" cy="271800"/>
            </a:xfrm>
          </p:grpSpPr>
          <p:sp>
            <p:nvSpPr>
              <p:cNvPr id="1342" name="椭圆 11"/>
              <p:cNvSpPr/>
              <p:nvPr/>
            </p:nvSpPr>
            <p:spPr>
              <a:xfrm rot="16200000">
                <a:off x="20016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32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椭圆 29"/>
              <p:cNvSpPr/>
              <p:nvPr/>
            </p:nvSpPr>
            <p:spPr>
              <a:xfrm rot="16200000">
                <a:off x="20016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32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284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284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284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284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0" name="文本框 1"/>
          <p:cNvSpPr/>
          <p:nvPr/>
        </p:nvSpPr>
        <p:spPr>
          <a:xfrm>
            <a:off x="250920" y="882720"/>
            <a:ext cx="8115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二、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文本框 12"/>
          <p:cNvSpPr/>
          <p:nvPr/>
        </p:nvSpPr>
        <p:spPr>
          <a:xfrm>
            <a:off x="1889280" y="1322280"/>
            <a:ext cx="785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文本框 1"/>
          <p:cNvSpPr/>
          <p:nvPr/>
        </p:nvSpPr>
        <p:spPr>
          <a:xfrm>
            <a:off x="4352760" y="1322280"/>
            <a:ext cx="7336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文本框 2"/>
          <p:cNvSpPr/>
          <p:nvPr/>
        </p:nvSpPr>
        <p:spPr>
          <a:xfrm>
            <a:off x="7086600" y="1322280"/>
            <a:ext cx="804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文本框 3"/>
          <p:cNvSpPr/>
          <p:nvPr/>
        </p:nvSpPr>
        <p:spPr>
          <a:xfrm>
            <a:off x="1822320" y="2595600"/>
            <a:ext cx="919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文本框 4"/>
          <p:cNvSpPr/>
          <p:nvPr/>
        </p:nvSpPr>
        <p:spPr>
          <a:xfrm>
            <a:off x="4352760" y="2595600"/>
            <a:ext cx="992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文本框 6"/>
          <p:cNvSpPr/>
          <p:nvPr/>
        </p:nvSpPr>
        <p:spPr>
          <a:xfrm>
            <a:off x="7169040" y="2595600"/>
            <a:ext cx="650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文本框 7"/>
          <p:cNvSpPr/>
          <p:nvPr/>
        </p:nvSpPr>
        <p:spPr>
          <a:xfrm>
            <a:off x="1724040" y="3879720"/>
            <a:ext cx="11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文本框 8"/>
          <p:cNvSpPr/>
          <p:nvPr/>
        </p:nvSpPr>
        <p:spPr>
          <a:xfrm>
            <a:off x="4245120" y="3879720"/>
            <a:ext cx="9493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文本框 9"/>
          <p:cNvSpPr/>
          <p:nvPr/>
        </p:nvSpPr>
        <p:spPr>
          <a:xfrm>
            <a:off x="7086600" y="3879720"/>
            <a:ext cx="969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6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63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71" name="文本框 99"/>
          <p:cNvSpPr/>
          <p:nvPr/>
        </p:nvSpPr>
        <p:spPr>
          <a:xfrm>
            <a:off x="179280" y="866880"/>
            <a:ext cx="8199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三、数学门诊（将不正确的改正过来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5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＋　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2  1  9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＋　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7 1 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     5                   1 4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14"/>
          <p:cNvGrpSpPr/>
          <p:nvPr/>
        </p:nvGrpSpPr>
        <p:grpSpPr>
          <a:xfrm>
            <a:off x="84240" y="4278240"/>
            <a:ext cx="3260520" cy="1680840"/>
            <a:chOff x="84240" y="4278240"/>
            <a:chExt cx="3260520" cy="1680840"/>
          </a:xfrm>
        </p:grpSpPr>
        <p:sp>
          <p:nvSpPr>
            <p:cNvPr id="1373" name="文本框 1"/>
            <p:cNvSpPr/>
            <p:nvPr/>
          </p:nvSpPr>
          <p:spPr>
            <a:xfrm>
              <a:off x="84240" y="4599000"/>
              <a:ext cx="551160" cy="10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文本框 3"/>
            <p:cNvSpPr/>
            <p:nvPr/>
          </p:nvSpPr>
          <p:spPr>
            <a:xfrm>
              <a:off x="908280" y="4278240"/>
              <a:ext cx="2436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  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直接连接符 4"/>
            <p:cNvSpPr/>
            <p:nvPr/>
          </p:nvSpPr>
          <p:spPr>
            <a:xfrm>
              <a:off x="1159920" y="5310360"/>
              <a:ext cx="174816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文本框 7"/>
            <p:cNvSpPr/>
            <p:nvPr/>
          </p:nvSpPr>
          <p:spPr>
            <a:xfrm>
              <a:off x="2183040" y="5063760"/>
              <a:ext cx="28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文本框 8"/>
            <p:cNvSpPr/>
            <p:nvPr/>
          </p:nvSpPr>
          <p:spPr>
            <a:xfrm>
              <a:off x="1399680" y="5475960"/>
              <a:ext cx="1454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0  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组合 15"/>
          <p:cNvGrpSpPr/>
          <p:nvPr/>
        </p:nvGrpSpPr>
        <p:grpSpPr>
          <a:xfrm>
            <a:off x="4708440" y="4348080"/>
            <a:ext cx="3465720" cy="1621080"/>
            <a:chOff x="4708440" y="4348080"/>
            <a:chExt cx="3465720" cy="1621080"/>
          </a:xfrm>
        </p:grpSpPr>
        <p:sp>
          <p:nvSpPr>
            <p:cNvPr id="1379" name="文本框 2"/>
            <p:cNvSpPr/>
            <p:nvPr/>
          </p:nvSpPr>
          <p:spPr>
            <a:xfrm>
              <a:off x="4708440" y="4507920"/>
              <a:ext cx="550800" cy="10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直接连接符 6"/>
            <p:cNvSpPr/>
            <p:nvPr/>
          </p:nvSpPr>
          <p:spPr>
            <a:xfrm>
              <a:off x="5927760" y="5384160"/>
              <a:ext cx="174780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文本框 9"/>
            <p:cNvSpPr/>
            <p:nvPr/>
          </p:nvSpPr>
          <p:spPr>
            <a:xfrm>
              <a:off x="5738040" y="4348080"/>
              <a:ext cx="2436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 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   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文本框 10"/>
            <p:cNvSpPr/>
            <p:nvPr/>
          </p:nvSpPr>
          <p:spPr>
            <a:xfrm>
              <a:off x="6101280" y="5464800"/>
              <a:ext cx="17103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 3   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文本框 12"/>
            <p:cNvSpPr/>
            <p:nvPr/>
          </p:nvSpPr>
          <p:spPr>
            <a:xfrm>
              <a:off x="6991920" y="5137560"/>
              <a:ext cx="28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8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87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5" name="文本框 99"/>
          <p:cNvSpPr/>
          <p:nvPr/>
        </p:nvSpPr>
        <p:spPr>
          <a:xfrm>
            <a:off x="441360" y="922320"/>
            <a:ext cx="825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四、本周李叔叔卖出了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34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筐水果，还剩下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28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筐。李叔叔原来有多少筐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文本框 1"/>
          <p:cNvSpPr/>
          <p:nvPr/>
        </p:nvSpPr>
        <p:spPr>
          <a:xfrm>
            <a:off x="2421000" y="2293920"/>
            <a:ext cx="3093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4+28=6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文本框 2"/>
          <p:cNvSpPr/>
          <p:nvPr/>
        </p:nvSpPr>
        <p:spPr>
          <a:xfrm>
            <a:off x="1389240" y="3268800"/>
            <a:ext cx="59702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李叔叔原来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筐水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401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09" name="文本框 99"/>
          <p:cNvSpPr/>
          <p:nvPr/>
        </p:nvSpPr>
        <p:spPr>
          <a:xfrm>
            <a:off x="293760" y="923760"/>
            <a:ext cx="81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五、一架玩具飞机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27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元，一把伞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元，一辆玩具车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34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）买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把伞和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辆玩具车需要付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）买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把伞和</a:t>
            </a:r>
            <a:r>
              <a:rPr b="0" lang="en-US" sz="2800" spc="-1" strike="noStrike">
                <a:solidFill>
                  <a:srgbClr val="494949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494949"/>
                </a:solidFill>
                <a:latin typeface="宋体"/>
                <a:ea typeface="宋体"/>
              </a:rPr>
              <a:t>辆玩具飞机需要付多少钱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文本框 1"/>
          <p:cNvSpPr/>
          <p:nvPr/>
        </p:nvSpPr>
        <p:spPr>
          <a:xfrm>
            <a:off x="2173320" y="281952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+34=5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文本框 2"/>
          <p:cNvSpPr/>
          <p:nvPr/>
        </p:nvSpPr>
        <p:spPr>
          <a:xfrm>
            <a:off x="781200" y="3587760"/>
            <a:ext cx="718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买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把伞和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辆玩具车需要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文本框 3"/>
          <p:cNvSpPr/>
          <p:nvPr/>
        </p:nvSpPr>
        <p:spPr>
          <a:xfrm>
            <a:off x="2073240" y="4138560"/>
            <a:ext cx="30942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+27=4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文本框 4"/>
          <p:cNvSpPr/>
          <p:nvPr/>
        </p:nvSpPr>
        <p:spPr>
          <a:xfrm>
            <a:off x="555480" y="4844880"/>
            <a:ext cx="718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买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把伞和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辆玩具飞机需要付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9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723960" y="2033640"/>
            <a:ext cx="7929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2071800" y="121140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谁算得又对又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2287440" y="2265480"/>
            <a:ext cx="857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5859360" y="2265480"/>
            <a:ext cx="857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5"/>
          <p:cNvSpPr/>
          <p:nvPr/>
        </p:nvSpPr>
        <p:spPr>
          <a:xfrm>
            <a:off x="1922400" y="2908440"/>
            <a:ext cx="642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"/>
          <p:cNvSpPr/>
          <p:nvPr/>
        </p:nvSpPr>
        <p:spPr>
          <a:xfrm>
            <a:off x="6326280" y="2908440"/>
            <a:ext cx="714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7"/>
          <p:cNvSpPr/>
          <p:nvPr/>
        </p:nvSpPr>
        <p:spPr>
          <a:xfrm>
            <a:off x="2698920" y="3551400"/>
            <a:ext cx="6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8"/>
          <p:cNvSpPr/>
          <p:nvPr/>
        </p:nvSpPr>
        <p:spPr>
          <a:xfrm>
            <a:off x="6362640" y="35514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0"/>
          <p:cNvSpPr/>
          <p:nvPr/>
        </p:nvSpPr>
        <p:spPr>
          <a:xfrm>
            <a:off x="571680" y="42840"/>
            <a:ext cx="2206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复习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矩形 1"/>
          <p:cNvSpPr/>
          <p:nvPr/>
        </p:nvSpPr>
        <p:spPr>
          <a:xfrm>
            <a:off x="2082240" y="785880"/>
            <a:ext cx="12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照样子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"/>
          <p:cNvSpPr/>
          <p:nvPr/>
        </p:nvSpPr>
        <p:spPr>
          <a:xfrm>
            <a:off x="5715000" y="1285920"/>
            <a:ext cx="642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4"/>
          <p:cNvSpPr/>
          <p:nvPr/>
        </p:nvSpPr>
        <p:spPr>
          <a:xfrm flipH="1">
            <a:off x="5643360" y="1928880"/>
            <a:ext cx="285480" cy="714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接连接符 6"/>
          <p:cNvSpPr/>
          <p:nvPr/>
        </p:nvSpPr>
        <p:spPr>
          <a:xfrm>
            <a:off x="6143760" y="1928880"/>
            <a:ext cx="357120" cy="714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15"/>
          <p:cNvSpPr/>
          <p:nvPr/>
        </p:nvSpPr>
        <p:spPr>
          <a:xfrm>
            <a:off x="5286240" y="2786040"/>
            <a:ext cx="714600" cy="57168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16"/>
          <p:cNvSpPr/>
          <p:nvPr/>
        </p:nvSpPr>
        <p:spPr>
          <a:xfrm>
            <a:off x="6215040" y="2786040"/>
            <a:ext cx="571680" cy="57168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组合 18"/>
          <p:cNvGrpSpPr/>
          <p:nvPr/>
        </p:nvGrpSpPr>
        <p:grpSpPr>
          <a:xfrm>
            <a:off x="2500200" y="1357200"/>
            <a:ext cx="1714680" cy="2000160"/>
            <a:chOff x="2500200" y="1357200"/>
            <a:chExt cx="1714680" cy="2000160"/>
          </a:xfrm>
        </p:grpSpPr>
        <p:sp>
          <p:nvSpPr>
            <p:cNvPr id="1025" name="TextBox 19"/>
            <p:cNvSpPr/>
            <p:nvPr/>
          </p:nvSpPr>
          <p:spPr>
            <a:xfrm>
              <a:off x="3071520" y="1357200"/>
              <a:ext cx="6429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20"/>
            <p:cNvSpPr/>
            <p:nvPr/>
          </p:nvSpPr>
          <p:spPr>
            <a:xfrm flipH="1">
              <a:off x="2857320" y="2000160"/>
              <a:ext cx="428400" cy="714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21"/>
            <p:cNvSpPr/>
            <p:nvPr/>
          </p:nvSpPr>
          <p:spPr>
            <a:xfrm>
              <a:off x="3429000" y="2000160"/>
              <a:ext cx="357120" cy="7146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矩形 22"/>
            <p:cNvSpPr/>
            <p:nvPr/>
          </p:nvSpPr>
          <p:spPr>
            <a:xfrm>
              <a:off x="2500200" y="2786040"/>
              <a:ext cx="785880" cy="571320"/>
            </a:xfrm>
            <a:prstGeom prst="rect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26"/>
            <p:cNvSpPr/>
            <p:nvPr/>
          </p:nvSpPr>
          <p:spPr>
            <a:xfrm>
              <a:off x="3429000" y="2786040"/>
              <a:ext cx="785880" cy="571320"/>
            </a:xfrm>
            <a:prstGeom prst="rect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TextBox 28"/>
          <p:cNvSpPr/>
          <p:nvPr/>
        </p:nvSpPr>
        <p:spPr>
          <a:xfrm>
            <a:off x="2928960" y="3784680"/>
            <a:ext cx="642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29"/>
          <p:cNvSpPr/>
          <p:nvPr/>
        </p:nvSpPr>
        <p:spPr>
          <a:xfrm flipH="1">
            <a:off x="2857320" y="4427640"/>
            <a:ext cx="285480" cy="714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30"/>
          <p:cNvSpPr/>
          <p:nvPr/>
        </p:nvSpPr>
        <p:spPr>
          <a:xfrm>
            <a:off x="3357720" y="4427640"/>
            <a:ext cx="357120" cy="714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1"/>
          <p:cNvSpPr/>
          <p:nvPr/>
        </p:nvSpPr>
        <p:spPr>
          <a:xfrm>
            <a:off x="2500200" y="5284800"/>
            <a:ext cx="714600" cy="57132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2"/>
          <p:cNvSpPr/>
          <p:nvPr/>
        </p:nvSpPr>
        <p:spPr>
          <a:xfrm>
            <a:off x="3429000" y="5284800"/>
            <a:ext cx="571680" cy="57132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34"/>
          <p:cNvSpPr/>
          <p:nvPr/>
        </p:nvSpPr>
        <p:spPr>
          <a:xfrm>
            <a:off x="5786280" y="3784680"/>
            <a:ext cx="642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35"/>
          <p:cNvSpPr/>
          <p:nvPr/>
        </p:nvSpPr>
        <p:spPr>
          <a:xfrm flipH="1">
            <a:off x="5643360" y="4427640"/>
            <a:ext cx="285480" cy="714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36"/>
          <p:cNvSpPr/>
          <p:nvPr/>
        </p:nvSpPr>
        <p:spPr>
          <a:xfrm>
            <a:off x="6143760" y="4427640"/>
            <a:ext cx="357120" cy="714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7"/>
          <p:cNvSpPr/>
          <p:nvPr/>
        </p:nvSpPr>
        <p:spPr>
          <a:xfrm>
            <a:off x="5286240" y="5284800"/>
            <a:ext cx="642960" cy="57132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8"/>
          <p:cNvSpPr/>
          <p:nvPr/>
        </p:nvSpPr>
        <p:spPr>
          <a:xfrm>
            <a:off x="6215040" y="5284800"/>
            <a:ext cx="571680" cy="57132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1" name="圆角矩形 5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43" name="椭圆 54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4" name="椭圆 55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5" name="椭圆 56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6" name="椭圆 57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圆角矩形 5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圆角矩形 5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圆角矩形 6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6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1" name="TextBox 10"/>
          <p:cNvSpPr/>
          <p:nvPr/>
        </p:nvSpPr>
        <p:spPr>
          <a:xfrm>
            <a:off x="571680" y="42840"/>
            <a:ext cx="2206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复习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Box 13"/>
          <p:cNvSpPr/>
          <p:nvPr/>
        </p:nvSpPr>
        <p:spPr>
          <a:xfrm>
            <a:off x="2949480" y="1665360"/>
            <a:ext cx="270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组合 129"/>
          <p:cNvGrpSpPr/>
          <p:nvPr/>
        </p:nvGrpSpPr>
        <p:grpSpPr>
          <a:xfrm>
            <a:off x="5130360" y="4264200"/>
            <a:ext cx="3586680" cy="1298520"/>
            <a:chOff x="5130360" y="4264200"/>
            <a:chExt cx="3586680" cy="1298520"/>
          </a:xfrm>
        </p:grpSpPr>
        <p:pic>
          <p:nvPicPr>
            <p:cNvPr id="1054" name="Picture 4" descr="C:\Documents and Settings\Administrator\桌面\人\海豚.jpg海豚"/>
            <p:cNvPicPr/>
            <p:nvPr/>
          </p:nvPicPr>
          <p:blipFill>
            <a:blip r:embed="rId1"/>
            <a:stretch/>
          </p:blipFill>
          <p:spPr>
            <a:xfrm>
              <a:off x="7647480" y="4264200"/>
              <a:ext cx="10695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AutoShape 27"/>
            <p:cNvSpPr/>
            <p:nvPr/>
          </p:nvSpPr>
          <p:spPr>
            <a:xfrm flipH="1">
              <a:off x="5130000" y="4264200"/>
              <a:ext cx="2156760" cy="989640"/>
            </a:xfrm>
            <a:prstGeom prst="wedgeRoundRectCallout">
              <a:avLst>
                <a:gd name="adj1" fmla="val -63782"/>
                <a:gd name="adj2" fmla="val 29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先算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再算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再算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组合 57"/>
          <p:cNvGrpSpPr/>
          <p:nvPr/>
        </p:nvGrpSpPr>
        <p:grpSpPr>
          <a:xfrm>
            <a:off x="419040" y="4570560"/>
            <a:ext cx="3438720" cy="1163520"/>
            <a:chOff x="419040" y="4570560"/>
            <a:chExt cx="3438720" cy="1163520"/>
          </a:xfrm>
        </p:grpSpPr>
        <p:sp>
          <p:nvSpPr>
            <p:cNvPr id="1057" name="AutoShape 27"/>
            <p:cNvSpPr/>
            <p:nvPr/>
          </p:nvSpPr>
          <p:spPr>
            <a:xfrm>
              <a:off x="1715040" y="4651560"/>
              <a:ext cx="2142720" cy="693720"/>
            </a:xfrm>
            <a:prstGeom prst="wedgeRoundRectCallout">
              <a:avLst>
                <a:gd name="adj1" fmla="val -56481"/>
                <a:gd name="adj2" fmla="val 7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先算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5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5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再算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5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8" name="Picture 2" descr="C:\Documents and Settings\Administrator\桌面\人\8.gif8"/>
            <p:cNvPicPr/>
            <p:nvPr/>
          </p:nvPicPr>
          <p:blipFill>
            <a:blip r:embed="rId2"/>
            <a:stretch/>
          </p:blipFill>
          <p:spPr>
            <a:xfrm>
              <a:off x="419040" y="4570560"/>
              <a:ext cx="1107720" cy="11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9" name="组合 20"/>
          <p:cNvGrpSpPr/>
          <p:nvPr/>
        </p:nvGrpSpPr>
        <p:grpSpPr>
          <a:xfrm>
            <a:off x="5986440" y="638280"/>
            <a:ext cx="2813040" cy="1612800"/>
            <a:chOff x="5986440" y="638280"/>
            <a:chExt cx="2813040" cy="1612800"/>
          </a:xfrm>
        </p:grpSpPr>
        <p:sp>
          <p:nvSpPr>
            <p:cNvPr id="1060" name="Text Box 18"/>
            <p:cNvSpPr/>
            <p:nvPr/>
          </p:nvSpPr>
          <p:spPr>
            <a:xfrm>
              <a:off x="6487200" y="1322640"/>
              <a:ext cx="2728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27"/>
            <p:cNvSpPr/>
            <p:nvPr/>
          </p:nvSpPr>
          <p:spPr>
            <a:xfrm>
              <a:off x="5986440" y="964080"/>
              <a:ext cx="1738080" cy="532800"/>
            </a:xfrm>
            <a:prstGeom prst="wedgeRoundRectCallout">
              <a:avLst>
                <a:gd name="adj1" fmla="val 61787"/>
                <a:gd name="adj2" fmla="val 119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c1c1c"/>
                  </a:solidFill>
                  <a:latin typeface="Comic Sans MS"/>
                  <a:ea typeface="宋体"/>
                </a:rPr>
                <a:t>你会口算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2" name="Picture 5" descr="D:\我的文档-桌面-收藏夹\桌面\9.jpg"/>
            <p:cNvPicPr/>
            <p:nvPr/>
          </p:nvPicPr>
          <p:blipFill>
            <a:blip r:embed="rId3"/>
            <a:stretch/>
          </p:blipFill>
          <p:spPr>
            <a:xfrm>
              <a:off x="7993800" y="638280"/>
              <a:ext cx="805680" cy="16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3" name="Text Box 57"/>
          <p:cNvSpPr/>
          <p:nvPr/>
        </p:nvSpPr>
        <p:spPr>
          <a:xfrm>
            <a:off x="1314360" y="2328840"/>
            <a:ext cx="19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0" lang="zh-CN" sz="1800" spc="-1" strike="noStrike">
                <a:solidFill>
                  <a:srgbClr val="1c1c1c"/>
                </a:solidFill>
                <a:latin typeface="Comic Sans MS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zh-CN" sz="1800" spc="-1" strike="noStrike">
                <a:solidFill>
                  <a:srgbClr val="1c1c1c"/>
                </a:solidFill>
                <a:latin typeface="Comic Sans MS"/>
                <a:ea typeface="宋体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59"/>
          <p:cNvGrpSpPr/>
          <p:nvPr/>
        </p:nvGrpSpPr>
        <p:grpSpPr>
          <a:xfrm>
            <a:off x="1944360" y="2641680"/>
            <a:ext cx="289080" cy="236520"/>
            <a:chOff x="1944360" y="2641680"/>
            <a:chExt cx="289080" cy="236520"/>
          </a:xfrm>
        </p:grpSpPr>
        <p:grpSp>
          <p:nvGrpSpPr>
            <p:cNvPr id="1065" name=""/>
            <p:cNvGrpSpPr/>
            <p:nvPr/>
          </p:nvGrpSpPr>
          <p:grpSpPr>
            <a:xfrm>
              <a:off x="1944360" y="2641680"/>
              <a:ext cx="144720" cy="236520"/>
              <a:chOff x="1944360" y="2641680"/>
              <a:chExt cx="144720" cy="236520"/>
            </a:xfrm>
          </p:grpSpPr>
          <p:sp>
            <p:nvSpPr>
              <p:cNvPr id="1066" name="Line 60"/>
              <p:cNvSpPr/>
              <p:nvPr/>
            </p:nvSpPr>
            <p:spPr>
              <a:xfrm flipH="1">
                <a:off x="1944360" y="2641680"/>
                <a:ext cx="14436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 txBox="1"/>
              <p:nvPr/>
            </p:nvSpPr>
            <p:spPr>
              <a:xfrm>
                <a:off x="1944720" y="2641680"/>
                <a:ext cx="144360" cy="23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2089080" y="2641680"/>
              <a:ext cx="144360" cy="236520"/>
              <a:chOff x="2089080" y="2641680"/>
              <a:chExt cx="144360" cy="236520"/>
            </a:xfrm>
          </p:grpSpPr>
          <p:sp>
            <p:nvSpPr>
              <p:cNvPr id="1069" name="Line 61"/>
              <p:cNvSpPr/>
              <p:nvPr/>
            </p:nvSpPr>
            <p:spPr>
              <a:xfrm>
                <a:off x="2089080" y="2641680"/>
                <a:ext cx="14436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>
                <a:off x="2089080" y="2641680"/>
                <a:ext cx="144360" cy="23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1" name="Rectangle 62"/>
          <p:cNvSpPr/>
          <p:nvPr/>
        </p:nvSpPr>
        <p:spPr>
          <a:xfrm>
            <a:off x="1667520" y="28335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63"/>
          <p:cNvSpPr/>
          <p:nvPr/>
        </p:nvSpPr>
        <p:spPr>
          <a:xfrm>
            <a:off x="2124000" y="2835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1547640" y="3308400"/>
            <a:ext cx="333720" cy="360"/>
            <a:chOff x="1547640" y="3308400"/>
            <a:chExt cx="333720" cy="360"/>
          </a:xfrm>
        </p:grpSpPr>
        <p:sp>
          <p:nvSpPr>
            <p:cNvPr id="1074" name="Line 64"/>
            <p:cNvSpPr/>
            <p:nvPr/>
          </p:nvSpPr>
          <p:spPr>
            <a:xfrm>
              <a:off x="1547640" y="3308400"/>
              <a:ext cx="333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1547640" y="3308400"/>
              <a:ext cx="3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1544400" y="2668320"/>
            <a:ext cx="360" cy="649080"/>
            <a:chOff x="1544400" y="2668320"/>
            <a:chExt cx="360" cy="649080"/>
          </a:xfrm>
        </p:grpSpPr>
        <p:sp>
          <p:nvSpPr>
            <p:cNvPr id="1077" name="Line 65"/>
            <p:cNvSpPr/>
            <p:nvPr/>
          </p:nvSpPr>
          <p:spPr>
            <a:xfrm flipV="1">
              <a:off x="1544760" y="2668320"/>
              <a:ext cx="0" cy="649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 rot="10800000">
              <a:off x="1544400" y="2668320"/>
              <a:ext cx="360" cy="64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Rectangle 66"/>
          <p:cNvSpPr/>
          <p:nvPr/>
        </p:nvSpPr>
        <p:spPr>
          <a:xfrm>
            <a:off x="1474560" y="3287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882440" y="3171600"/>
            <a:ext cx="360" cy="144360"/>
            <a:chOff x="1882440" y="3171600"/>
            <a:chExt cx="360" cy="144360"/>
          </a:xfrm>
        </p:grpSpPr>
        <p:sp>
          <p:nvSpPr>
            <p:cNvPr id="1081" name="Line 67"/>
            <p:cNvSpPr/>
            <p:nvPr/>
          </p:nvSpPr>
          <p:spPr>
            <a:xfrm flipV="1">
              <a:off x="1882800" y="3171600"/>
              <a:ext cx="0" cy="144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 rot="10800000">
              <a:off x="1882440" y="317160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8"/>
          <p:cNvSpPr/>
          <p:nvPr/>
        </p:nvSpPr>
        <p:spPr>
          <a:xfrm>
            <a:off x="2413800" y="231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57"/>
          <p:cNvSpPr/>
          <p:nvPr/>
        </p:nvSpPr>
        <p:spPr>
          <a:xfrm>
            <a:off x="5065560" y="2328840"/>
            <a:ext cx="19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0" lang="zh-CN" sz="1800" spc="-1" strike="noStrike">
                <a:solidFill>
                  <a:srgbClr val="1c1c1c"/>
                </a:solidFill>
                <a:latin typeface="Comic Sans MS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zh-CN" sz="1800" spc="-1" strike="noStrike">
                <a:solidFill>
                  <a:srgbClr val="1c1c1c"/>
                </a:solidFill>
                <a:latin typeface="Comic Sans MS"/>
                <a:ea typeface="宋体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Group 59"/>
          <p:cNvGrpSpPr/>
          <p:nvPr/>
        </p:nvGrpSpPr>
        <p:grpSpPr>
          <a:xfrm>
            <a:off x="5710320" y="2641680"/>
            <a:ext cx="276120" cy="236520"/>
            <a:chOff x="5710320" y="2641680"/>
            <a:chExt cx="276120" cy="236520"/>
          </a:xfrm>
        </p:grpSpPr>
        <p:grpSp>
          <p:nvGrpSpPr>
            <p:cNvPr id="1086" name=""/>
            <p:cNvGrpSpPr/>
            <p:nvPr/>
          </p:nvGrpSpPr>
          <p:grpSpPr>
            <a:xfrm>
              <a:off x="5710320" y="2641680"/>
              <a:ext cx="134640" cy="236520"/>
              <a:chOff x="5710320" y="2641680"/>
              <a:chExt cx="134640" cy="236520"/>
            </a:xfrm>
          </p:grpSpPr>
          <p:sp>
            <p:nvSpPr>
              <p:cNvPr id="1087" name="Line 60"/>
              <p:cNvSpPr/>
              <p:nvPr/>
            </p:nvSpPr>
            <p:spPr>
              <a:xfrm flipH="1">
                <a:off x="5710320" y="2641680"/>
                <a:ext cx="13464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 txBox="1"/>
              <p:nvPr/>
            </p:nvSpPr>
            <p:spPr>
              <a:xfrm>
                <a:off x="5710320" y="2641680"/>
                <a:ext cx="134640" cy="23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5844960" y="2641680"/>
              <a:ext cx="141480" cy="236520"/>
              <a:chOff x="5844960" y="2641680"/>
              <a:chExt cx="141480" cy="236520"/>
            </a:xfrm>
          </p:grpSpPr>
          <p:sp>
            <p:nvSpPr>
              <p:cNvPr id="1090" name="Line 61"/>
              <p:cNvSpPr/>
              <p:nvPr/>
            </p:nvSpPr>
            <p:spPr>
              <a:xfrm>
                <a:off x="5844960" y="2641680"/>
                <a:ext cx="14148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 txBox="1"/>
              <p:nvPr/>
            </p:nvSpPr>
            <p:spPr>
              <a:xfrm>
                <a:off x="5844960" y="2641680"/>
                <a:ext cx="141480" cy="23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2" name="Rectangle 62"/>
          <p:cNvSpPr/>
          <p:nvPr/>
        </p:nvSpPr>
        <p:spPr>
          <a:xfrm>
            <a:off x="5483880" y="283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63"/>
          <p:cNvSpPr/>
          <p:nvPr/>
        </p:nvSpPr>
        <p:spPr>
          <a:xfrm>
            <a:off x="5867280" y="2835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5148360" y="3308400"/>
            <a:ext cx="585720" cy="360"/>
            <a:chOff x="5148360" y="3308400"/>
            <a:chExt cx="585720" cy="360"/>
          </a:xfrm>
        </p:grpSpPr>
        <p:sp>
          <p:nvSpPr>
            <p:cNvPr id="1095" name="Line 64"/>
            <p:cNvSpPr/>
            <p:nvPr/>
          </p:nvSpPr>
          <p:spPr>
            <a:xfrm>
              <a:off x="5148360" y="3308400"/>
              <a:ext cx="585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 txBox="1"/>
            <p:nvPr/>
          </p:nvSpPr>
          <p:spPr>
            <a:xfrm>
              <a:off x="5148360" y="3308400"/>
              <a:ext cx="58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5146200" y="3171600"/>
            <a:ext cx="1800" cy="144360"/>
            <a:chOff x="5146200" y="3171600"/>
            <a:chExt cx="1800" cy="144360"/>
          </a:xfrm>
        </p:grpSpPr>
        <p:sp>
          <p:nvSpPr>
            <p:cNvPr id="1098" name="Line 65"/>
            <p:cNvSpPr/>
            <p:nvPr/>
          </p:nvSpPr>
          <p:spPr>
            <a:xfrm flipH="1" flipV="1">
              <a:off x="5146200" y="317160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 rot="10800000">
              <a:off x="5146200" y="3171600"/>
              <a:ext cx="18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Rectangle 66"/>
          <p:cNvSpPr/>
          <p:nvPr/>
        </p:nvSpPr>
        <p:spPr>
          <a:xfrm>
            <a:off x="5085720" y="3287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724000" y="3171600"/>
            <a:ext cx="360" cy="144360"/>
            <a:chOff x="5724000" y="3171600"/>
            <a:chExt cx="360" cy="144360"/>
          </a:xfrm>
        </p:grpSpPr>
        <p:sp>
          <p:nvSpPr>
            <p:cNvPr id="1102" name="Line 67"/>
            <p:cNvSpPr/>
            <p:nvPr/>
          </p:nvSpPr>
          <p:spPr>
            <a:xfrm flipV="1">
              <a:off x="5724360" y="3171600"/>
              <a:ext cx="0" cy="144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 rot="10800000">
              <a:off x="5724000" y="317160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Rectangle 68"/>
          <p:cNvSpPr/>
          <p:nvPr/>
        </p:nvSpPr>
        <p:spPr>
          <a:xfrm>
            <a:off x="6071400" y="22845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59"/>
          <p:cNvGrpSpPr/>
          <p:nvPr/>
        </p:nvGrpSpPr>
        <p:grpSpPr>
          <a:xfrm>
            <a:off x="5151600" y="2641680"/>
            <a:ext cx="284040" cy="236520"/>
            <a:chOff x="5151600" y="2641680"/>
            <a:chExt cx="284040" cy="236520"/>
          </a:xfrm>
        </p:grpSpPr>
        <p:grpSp>
          <p:nvGrpSpPr>
            <p:cNvPr id="1106" name=""/>
            <p:cNvGrpSpPr/>
            <p:nvPr/>
          </p:nvGrpSpPr>
          <p:grpSpPr>
            <a:xfrm>
              <a:off x="5151600" y="2641680"/>
              <a:ext cx="150480" cy="236520"/>
              <a:chOff x="5151600" y="2641680"/>
              <a:chExt cx="150480" cy="236520"/>
            </a:xfrm>
          </p:grpSpPr>
          <p:sp>
            <p:nvSpPr>
              <p:cNvPr id="1107" name="Line 60"/>
              <p:cNvSpPr/>
              <p:nvPr/>
            </p:nvSpPr>
            <p:spPr>
              <a:xfrm flipH="1">
                <a:off x="5151600" y="2641680"/>
                <a:ext cx="15048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 txBox="1"/>
              <p:nvPr/>
            </p:nvSpPr>
            <p:spPr>
              <a:xfrm>
                <a:off x="5151600" y="2641680"/>
                <a:ext cx="150480" cy="23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5302080" y="2641680"/>
              <a:ext cx="133560" cy="236520"/>
              <a:chOff x="5302080" y="2641680"/>
              <a:chExt cx="133560" cy="236520"/>
            </a:xfrm>
          </p:grpSpPr>
          <p:sp>
            <p:nvSpPr>
              <p:cNvPr id="1110" name="Line 61"/>
              <p:cNvSpPr/>
              <p:nvPr/>
            </p:nvSpPr>
            <p:spPr>
              <a:xfrm>
                <a:off x="5302080" y="2641680"/>
                <a:ext cx="13356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 txBox="1"/>
              <p:nvPr/>
            </p:nvSpPr>
            <p:spPr>
              <a:xfrm>
                <a:off x="5302080" y="2641680"/>
                <a:ext cx="133560" cy="23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2" name="Rectangle 62"/>
          <p:cNvSpPr/>
          <p:nvPr/>
        </p:nvSpPr>
        <p:spPr>
          <a:xfrm>
            <a:off x="4921920" y="283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63"/>
          <p:cNvSpPr/>
          <p:nvPr/>
        </p:nvSpPr>
        <p:spPr>
          <a:xfrm>
            <a:off x="5292720" y="2835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463720" y="3164040"/>
            <a:ext cx="360" cy="226800"/>
            <a:chOff x="5463720" y="3164040"/>
            <a:chExt cx="360" cy="226800"/>
          </a:xfrm>
        </p:grpSpPr>
        <p:sp>
          <p:nvSpPr>
            <p:cNvPr id="1115" name="Line 65"/>
            <p:cNvSpPr/>
            <p:nvPr/>
          </p:nvSpPr>
          <p:spPr>
            <a:xfrm flipV="1">
              <a:off x="5464080" y="3164040"/>
              <a:ext cx="0" cy="226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 rot="10800000">
              <a:off x="5463720" y="3164040"/>
              <a:ext cx="360" cy="22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454720" y="3389400"/>
            <a:ext cx="584280" cy="360"/>
            <a:chOff x="5454720" y="3389400"/>
            <a:chExt cx="584280" cy="360"/>
          </a:xfrm>
        </p:grpSpPr>
        <p:sp>
          <p:nvSpPr>
            <p:cNvPr id="1118" name="Line 64"/>
            <p:cNvSpPr/>
            <p:nvPr/>
          </p:nvSpPr>
          <p:spPr>
            <a:xfrm>
              <a:off x="5454720" y="3389400"/>
              <a:ext cx="584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5454720" y="3389400"/>
              <a:ext cx="58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6035400" y="3164040"/>
            <a:ext cx="360" cy="225360"/>
            <a:chOff x="6035400" y="3164040"/>
            <a:chExt cx="360" cy="225360"/>
          </a:xfrm>
        </p:grpSpPr>
        <p:sp>
          <p:nvSpPr>
            <p:cNvPr id="1121" name="Line 67"/>
            <p:cNvSpPr/>
            <p:nvPr/>
          </p:nvSpPr>
          <p:spPr>
            <a:xfrm flipV="1">
              <a:off x="6035760" y="3164040"/>
              <a:ext cx="0" cy="225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 rot="10800000">
              <a:off x="6035400" y="3164040"/>
              <a:ext cx="360" cy="22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Rectangle 66"/>
          <p:cNvSpPr/>
          <p:nvPr/>
        </p:nvSpPr>
        <p:spPr>
          <a:xfrm>
            <a:off x="5611320" y="335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7"/>
          <p:cNvSpPr/>
          <p:nvPr/>
        </p:nvSpPr>
        <p:spPr>
          <a:xfrm>
            <a:off x="576360" y="77760"/>
            <a:ext cx="267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omic Sans MS"/>
                <a:ea typeface="宋体"/>
              </a:rPr>
              <a:t>探究算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2"/>
          <p:cNvGrpSpPr/>
          <p:nvPr/>
        </p:nvGrpSpPr>
        <p:grpSpPr>
          <a:xfrm>
            <a:off x="-20520" y="88920"/>
            <a:ext cx="2739960" cy="527040"/>
            <a:chOff x="-20520" y="88920"/>
            <a:chExt cx="2739960" cy="527040"/>
          </a:xfrm>
        </p:grpSpPr>
        <p:pic>
          <p:nvPicPr>
            <p:cNvPr id="1126" name="圆角矩形 7" descr=""/>
            <p:cNvPicPr/>
            <p:nvPr/>
          </p:nvPicPr>
          <p:blipFill>
            <a:blip r:embed="rId4"/>
            <a:stretch/>
          </p:blipFill>
          <p:spPr>
            <a:xfrm>
              <a:off x="102240" y="88920"/>
              <a:ext cx="2617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7" name="组合 4"/>
            <p:cNvGrpSpPr/>
            <p:nvPr/>
          </p:nvGrpSpPr>
          <p:grpSpPr>
            <a:xfrm>
              <a:off x="-20520" y="184680"/>
              <a:ext cx="361440" cy="273600"/>
              <a:chOff x="-20520" y="184680"/>
              <a:chExt cx="361440" cy="273600"/>
            </a:xfrm>
          </p:grpSpPr>
          <p:sp>
            <p:nvSpPr>
              <p:cNvPr id="1128" name="椭圆 8"/>
              <p:cNvSpPr/>
              <p:nvPr/>
            </p:nvSpPr>
            <p:spPr>
              <a:xfrm rot="16200000">
                <a:off x="208440" y="34848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9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120" y="327960"/>
                <a:ext cx="19980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椭圆 10"/>
              <p:cNvSpPr/>
              <p:nvPr/>
            </p:nvSpPr>
            <p:spPr>
              <a:xfrm rot="16200000">
                <a:off x="208440" y="22860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141120" y="200880"/>
                <a:ext cx="19980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-20520" y="345960"/>
                <a:ext cx="2908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-20520" y="314280"/>
                <a:ext cx="2908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-20520" y="216360"/>
                <a:ext cx="2908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-20520" y="184680"/>
                <a:ext cx="29088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6" name="八边形 18"/>
          <p:cNvSpPr/>
          <p:nvPr/>
        </p:nvSpPr>
        <p:spPr>
          <a:xfrm>
            <a:off x="34308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19"/>
          <p:cNvSpPr/>
          <p:nvPr/>
        </p:nvSpPr>
        <p:spPr>
          <a:xfrm>
            <a:off x="938160" y="752400"/>
            <a:ext cx="46674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一年级一共要买多少张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组合 35"/>
          <p:cNvGrpSpPr/>
          <p:nvPr/>
        </p:nvGrpSpPr>
        <p:grpSpPr>
          <a:xfrm>
            <a:off x="642960" y="4533840"/>
            <a:ext cx="3873600" cy="1252440"/>
            <a:chOff x="642960" y="4533840"/>
            <a:chExt cx="3873600" cy="1252440"/>
          </a:xfrm>
        </p:grpSpPr>
        <p:pic>
          <p:nvPicPr>
            <p:cNvPr id="1139" name="Picture 2" descr="D:\我的文档-桌面-收藏夹\桌面\17.jpg"/>
            <p:cNvPicPr/>
            <p:nvPr/>
          </p:nvPicPr>
          <p:blipFill>
            <a:blip r:embed="rId1"/>
            <a:stretch/>
          </p:blipFill>
          <p:spPr>
            <a:xfrm>
              <a:off x="642960" y="4533840"/>
              <a:ext cx="110376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AutoShape 27"/>
            <p:cNvSpPr/>
            <p:nvPr/>
          </p:nvSpPr>
          <p:spPr>
            <a:xfrm>
              <a:off x="2068560" y="4781520"/>
              <a:ext cx="2448000" cy="397080"/>
            </a:xfrm>
            <a:prstGeom prst="wedgeRoundRectCallout">
              <a:avLst>
                <a:gd name="adj1" fmla="val -60365"/>
                <a:gd name="adj2" fmla="val 38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还可以怎样口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 Box 3"/>
          <p:cNvSpPr/>
          <p:nvPr/>
        </p:nvSpPr>
        <p:spPr>
          <a:xfrm>
            <a:off x="5784840" y="1739880"/>
            <a:ext cx="311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8"/>
          <p:cNvGrpSpPr/>
          <p:nvPr/>
        </p:nvGrpSpPr>
        <p:grpSpPr>
          <a:xfrm>
            <a:off x="3836880" y="2735280"/>
            <a:ext cx="496440" cy="342360"/>
            <a:chOff x="3836880" y="2735280"/>
            <a:chExt cx="496440" cy="342360"/>
          </a:xfrm>
        </p:grpSpPr>
        <p:grpSp>
          <p:nvGrpSpPr>
            <p:cNvPr id="1143" name=""/>
            <p:cNvGrpSpPr/>
            <p:nvPr/>
          </p:nvGrpSpPr>
          <p:grpSpPr>
            <a:xfrm>
              <a:off x="3836880" y="2735280"/>
              <a:ext cx="240480" cy="342360"/>
              <a:chOff x="3836880" y="2735280"/>
              <a:chExt cx="240480" cy="342360"/>
            </a:xfrm>
          </p:grpSpPr>
          <p:sp>
            <p:nvSpPr>
              <p:cNvPr id="1144" name="Line 9"/>
              <p:cNvSpPr/>
              <p:nvPr/>
            </p:nvSpPr>
            <p:spPr>
              <a:xfrm flipH="1">
                <a:off x="3836880" y="2735280"/>
                <a:ext cx="24048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 txBox="1"/>
              <p:nvPr/>
            </p:nvSpPr>
            <p:spPr>
              <a:xfrm>
                <a:off x="3836880" y="2735280"/>
                <a:ext cx="240480" cy="34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4077360" y="2735280"/>
              <a:ext cx="255960" cy="342360"/>
              <a:chOff x="4077360" y="2735280"/>
              <a:chExt cx="255960" cy="342360"/>
            </a:xfrm>
          </p:grpSpPr>
          <p:sp>
            <p:nvSpPr>
              <p:cNvPr id="1147" name="Line 10"/>
              <p:cNvSpPr/>
              <p:nvPr/>
            </p:nvSpPr>
            <p:spPr>
              <a:xfrm>
                <a:off x="4077360" y="2735280"/>
                <a:ext cx="25596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 txBox="1"/>
              <p:nvPr/>
            </p:nvSpPr>
            <p:spPr>
              <a:xfrm>
                <a:off x="4077360" y="2735280"/>
                <a:ext cx="255960" cy="34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Rectangle 11"/>
          <p:cNvSpPr/>
          <p:nvPr/>
        </p:nvSpPr>
        <p:spPr>
          <a:xfrm>
            <a:off x="3419640" y="3006720"/>
            <a:ext cx="75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2"/>
          <p:cNvSpPr/>
          <p:nvPr/>
        </p:nvSpPr>
        <p:spPr>
          <a:xfrm>
            <a:off x="4211640" y="3006720"/>
            <a:ext cx="3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3217680" y="3692160"/>
            <a:ext cx="563760" cy="360"/>
            <a:chOff x="3217680" y="3692160"/>
            <a:chExt cx="563760" cy="360"/>
          </a:xfrm>
        </p:grpSpPr>
        <p:sp>
          <p:nvSpPr>
            <p:cNvPr id="1152" name="Line 13"/>
            <p:cNvSpPr/>
            <p:nvPr/>
          </p:nvSpPr>
          <p:spPr>
            <a:xfrm>
              <a:off x="3218040" y="3692520"/>
              <a:ext cx="5634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 txBox="1"/>
            <p:nvPr/>
          </p:nvSpPr>
          <p:spPr>
            <a:xfrm rot="10800000">
              <a:off x="3217680" y="3692160"/>
              <a:ext cx="563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227040" y="2734920"/>
            <a:ext cx="360" cy="955800"/>
            <a:chOff x="3227040" y="2734920"/>
            <a:chExt cx="360" cy="955800"/>
          </a:xfrm>
        </p:grpSpPr>
        <p:sp>
          <p:nvSpPr>
            <p:cNvPr id="1155" name="Line 14"/>
            <p:cNvSpPr/>
            <p:nvPr/>
          </p:nvSpPr>
          <p:spPr>
            <a:xfrm flipV="1">
              <a:off x="3227400" y="2734920"/>
              <a:ext cx="0" cy="955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 txBox="1"/>
            <p:nvPr/>
          </p:nvSpPr>
          <p:spPr>
            <a:xfrm rot="10800000">
              <a:off x="3227040" y="2734920"/>
              <a:ext cx="360" cy="95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Rectangle 15"/>
          <p:cNvSpPr/>
          <p:nvPr/>
        </p:nvSpPr>
        <p:spPr>
          <a:xfrm>
            <a:off x="3195360" y="3666960"/>
            <a:ext cx="61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7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3779640" y="3511080"/>
            <a:ext cx="360" cy="179640"/>
            <a:chOff x="3779640" y="3511080"/>
            <a:chExt cx="360" cy="179640"/>
          </a:xfrm>
        </p:grpSpPr>
        <p:sp>
          <p:nvSpPr>
            <p:cNvPr id="1159" name="Line 16"/>
            <p:cNvSpPr/>
            <p:nvPr/>
          </p:nvSpPr>
          <p:spPr>
            <a:xfrm flipV="1">
              <a:off x="3780000" y="351108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 rot="10800000">
              <a:off x="3779640" y="3511080"/>
              <a:ext cx="360" cy="1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Rectangle 17"/>
          <p:cNvSpPr/>
          <p:nvPr/>
        </p:nvSpPr>
        <p:spPr>
          <a:xfrm>
            <a:off x="4603320" y="2143080"/>
            <a:ext cx="61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8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5"/>
          <p:cNvSpPr/>
          <p:nvPr/>
        </p:nvSpPr>
        <p:spPr>
          <a:xfrm>
            <a:off x="2949480" y="2165400"/>
            <a:ext cx="20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44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组合 34"/>
          <p:cNvGrpSpPr/>
          <p:nvPr/>
        </p:nvGrpSpPr>
        <p:grpSpPr>
          <a:xfrm>
            <a:off x="4710240" y="3786120"/>
            <a:ext cx="3693960" cy="1214640"/>
            <a:chOff x="4710240" y="3786120"/>
            <a:chExt cx="3693960" cy="1214640"/>
          </a:xfrm>
        </p:grpSpPr>
        <p:pic>
          <p:nvPicPr>
            <p:cNvPr id="1164" name="Picture 4" descr="C:\Documents and Settings\Administrator\桌面\人\小女孩.tif小女孩"/>
            <p:cNvPicPr/>
            <p:nvPr/>
          </p:nvPicPr>
          <p:blipFill>
            <a:blip r:embed="rId2"/>
            <a:stretch/>
          </p:blipFill>
          <p:spPr>
            <a:xfrm>
              <a:off x="7581240" y="3786120"/>
              <a:ext cx="82296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AutoShape 27"/>
            <p:cNvSpPr/>
            <p:nvPr/>
          </p:nvSpPr>
          <p:spPr>
            <a:xfrm>
              <a:off x="4710240" y="3887640"/>
              <a:ext cx="2520360" cy="693720"/>
            </a:xfrm>
            <a:prstGeom prst="wedgeRoundRectCallout">
              <a:avLst>
                <a:gd name="adj1" fmla="val 57254"/>
                <a:gd name="adj2" fmla="val -11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先算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再算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3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组合 32"/>
          <p:cNvGrpSpPr/>
          <p:nvPr/>
        </p:nvGrpSpPr>
        <p:grpSpPr>
          <a:xfrm>
            <a:off x="5530680" y="961920"/>
            <a:ext cx="3270240" cy="1743120"/>
            <a:chOff x="5530680" y="961920"/>
            <a:chExt cx="3270240" cy="1743120"/>
          </a:xfrm>
        </p:grpSpPr>
        <p:sp>
          <p:nvSpPr>
            <p:cNvPr id="1167" name="AutoShape 27"/>
            <p:cNvSpPr/>
            <p:nvPr/>
          </p:nvSpPr>
          <p:spPr>
            <a:xfrm>
              <a:off x="5530680" y="1403280"/>
              <a:ext cx="1980000" cy="576360"/>
            </a:xfrm>
            <a:prstGeom prst="wedgeRoundRectCallout">
              <a:avLst>
                <a:gd name="adj1" fmla="val 61787"/>
                <a:gd name="adj2" fmla="val 119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c1c1c"/>
                  </a:solidFill>
                  <a:latin typeface="Comic Sans MS"/>
                  <a:ea typeface="宋体"/>
                </a:rPr>
                <a:t>怎样口算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8" name="Picture 5" descr="D:\我的文档-桌面-收藏夹\桌面\9.jpg"/>
            <p:cNvPicPr/>
            <p:nvPr/>
          </p:nvPicPr>
          <p:blipFill>
            <a:blip r:embed="rId3"/>
            <a:stretch/>
          </p:blipFill>
          <p:spPr>
            <a:xfrm flipH="1">
              <a:off x="7883280" y="961920"/>
              <a:ext cx="917640" cy="17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9" name="组合 33"/>
          <p:cNvGrpSpPr/>
          <p:nvPr/>
        </p:nvGrpSpPr>
        <p:grpSpPr>
          <a:xfrm>
            <a:off x="655560" y="4572000"/>
            <a:ext cx="3925800" cy="1386000"/>
            <a:chOff x="655560" y="4572000"/>
            <a:chExt cx="3925800" cy="1386000"/>
          </a:xfrm>
        </p:grpSpPr>
        <p:sp>
          <p:nvSpPr>
            <p:cNvPr id="1170" name="AutoShape 27"/>
            <p:cNvSpPr/>
            <p:nvPr/>
          </p:nvSpPr>
          <p:spPr>
            <a:xfrm>
              <a:off x="1917720" y="4572000"/>
              <a:ext cx="2663640" cy="693720"/>
            </a:xfrm>
            <a:prstGeom prst="wedgeRoundRectCallout">
              <a:avLst>
                <a:gd name="adj1" fmla="val -58537"/>
                <a:gd name="adj2" fmla="val 252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说一说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4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，你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是怎样口算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1" name="Picture 2" descr="C:\Documents and Settings\Administrator\桌面\人\1.jpg1"/>
            <p:cNvPicPr/>
            <p:nvPr/>
          </p:nvPicPr>
          <p:blipFill>
            <a:blip r:embed="rId4"/>
            <a:stretch/>
          </p:blipFill>
          <p:spPr>
            <a:xfrm>
              <a:off x="655560" y="4794120"/>
              <a:ext cx="88812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2" name="TextBox 36"/>
          <p:cNvSpPr/>
          <p:nvPr/>
        </p:nvSpPr>
        <p:spPr>
          <a:xfrm>
            <a:off x="927000" y="808200"/>
            <a:ext cx="4308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二年级一共要买多少张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八边形 7"/>
          <p:cNvSpPr/>
          <p:nvPr/>
        </p:nvSpPr>
        <p:spPr>
          <a:xfrm>
            <a:off x="34308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2"/>
          <p:cNvGrpSpPr/>
          <p:nvPr/>
        </p:nvGrpSpPr>
        <p:grpSpPr>
          <a:xfrm>
            <a:off x="-20520" y="88920"/>
            <a:ext cx="2739960" cy="527040"/>
            <a:chOff x="-20520" y="88920"/>
            <a:chExt cx="2739960" cy="527040"/>
          </a:xfrm>
        </p:grpSpPr>
        <p:pic>
          <p:nvPicPr>
            <p:cNvPr id="1175" name="圆角矩形 18" descr=""/>
            <p:cNvPicPr/>
            <p:nvPr/>
          </p:nvPicPr>
          <p:blipFill>
            <a:blip r:embed="rId5"/>
            <a:stretch/>
          </p:blipFill>
          <p:spPr>
            <a:xfrm>
              <a:off x="102240" y="88920"/>
              <a:ext cx="2617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6" name="组合 4"/>
            <p:cNvGrpSpPr/>
            <p:nvPr/>
          </p:nvGrpSpPr>
          <p:grpSpPr>
            <a:xfrm>
              <a:off x="-20520" y="184680"/>
              <a:ext cx="361440" cy="273600"/>
              <a:chOff x="-20520" y="184680"/>
              <a:chExt cx="361440" cy="273600"/>
            </a:xfrm>
          </p:grpSpPr>
          <p:sp>
            <p:nvSpPr>
              <p:cNvPr id="1177" name="椭圆 19"/>
              <p:cNvSpPr/>
              <p:nvPr/>
            </p:nvSpPr>
            <p:spPr>
              <a:xfrm rot="16200000">
                <a:off x="208440" y="34848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8" name="椭圆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1120" y="327960"/>
                <a:ext cx="19980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椭圆 21"/>
              <p:cNvSpPr/>
              <p:nvPr/>
            </p:nvSpPr>
            <p:spPr>
              <a:xfrm rot="16200000">
                <a:off x="208440" y="228600"/>
                <a:ext cx="9360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0" name="椭圆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141120" y="200880"/>
                <a:ext cx="19980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-20520" y="345960"/>
                <a:ext cx="2908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-20520" y="314280"/>
                <a:ext cx="2908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圆角矩形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-20520" y="216360"/>
                <a:ext cx="2908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圆角矩形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-20520" y="184680"/>
                <a:ext cx="29088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"/>
                            </p:stCondLst>
                            <p:childTnLst>
                              <p:par>
                                <p:cTn id="1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3"/>
          <p:cNvSpPr/>
          <p:nvPr/>
        </p:nvSpPr>
        <p:spPr>
          <a:xfrm>
            <a:off x="5567400" y="1596960"/>
            <a:ext cx="3110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8"/>
          <p:cNvSpPr/>
          <p:nvPr/>
        </p:nvSpPr>
        <p:spPr>
          <a:xfrm>
            <a:off x="5627520" y="34304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zh-CN" sz="1800" spc="-1" strike="noStrike">
                <a:solidFill>
                  <a:srgbClr val="1c1c1c"/>
                </a:solidFill>
                <a:latin typeface="Comic Sans MS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4</a:t>
            </a:r>
            <a:r>
              <a:rPr b="0" lang="zh-CN" sz="1800" spc="-1" strike="noStrike">
                <a:solidFill>
                  <a:srgbClr val="1c1c1c"/>
                </a:solidFill>
                <a:latin typeface="Comic Sans MS"/>
                <a:ea typeface="宋体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9"/>
          <p:cNvSpPr/>
          <p:nvPr/>
        </p:nvSpPr>
        <p:spPr>
          <a:xfrm>
            <a:off x="5772960" y="4398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20"/>
          <p:cNvGrpSpPr/>
          <p:nvPr/>
        </p:nvGrpSpPr>
        <p:grpSpPr>
          <a:xfrm>
            <a:off x="6256440" y="3790800"/>
            <a:ext cx="283680" cy="216000"/>
            <a:chOff x="6256440" y="3790800"/>
            <a:chExt cx="283680" cy="216000"/>
          </a:xfrm>
        </p:grpSpPr>
        <p:grpSp>
          <p:nvGrpSpPr>
            <p:cNvPr id="1189" name=""/>
            <p:cNvGrpSpPr/>
            <p:nvPr/>
          </p:nvGrpSpPr>
          <p:grpSpPr>
            <a:xfrm>
              <a:off x="6256440" y="3790800"/>
              <a:ext cx="144000" cy="216000"/>
              <a:chOff x="6256440" y="3790800"/>
              <a:chExt cx="144000" cy="216000"/>
            </a:xfrm>
          </p:grpSpPr>
          <p:sp>
            <p:nvSpPr>
              <p:cNvPr id="1190" name="Line 21"/>
              <p:cNvSpPr/>
              <p:nvPr/>
            </p:nvSpPr>
            <p:spPr>
              <a:xfrm flipH="1">
                <a:off x="6256440" y="3790800"/>
                <a:ext cx="14400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 txBox="1"/>
              <p:nvPr/>
            </p:nvSpPr>
            <p:spPr>
              <a:xfrm>
                <a:off x="6256440" y="3790800"/>
                <a:ext cx="1440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6400440" y="3790800"/>
              <a:ext cx="139680" cy="216000"/>
              <a:chOff x="6400440" y="3790800"/>
              <a:chExt cx="139680" cy="216000"/>
            </a:xfrm>
          </p:grpSpPr>
          <p:sp>
            <p:nvSpPr>
              <p:cNvPr id="1193" name="Line 22"/>
              <p:cNvSpPr/>
              <p:nvPr/>
            </p:nvSpPr>
            <p:spPr>
              <a:xfrm>
                <a:off x="6400440" y="3790800"/>
                <a:ext cx="1396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 txBox="1"/>
              <p:nvPr/>
            </p:nvSpPr>
            <p:spPr>
              <a:xfrm>
                <a:off x="6400440" y="3790800"/>
                <a:ext cx="13968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5" name="Rectangle 23"/>
          <p:cNvSpPr/>
          <p:nvPr/>
        </p:nvSpPr>
        <p:spPr>
          <a:xfrm>
            <a:off x="5954040" y="3965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4"/>
          <p:cNvSpPr/>
          <p:nvPr/>
        </p:nvSpPr>
        <p:spPr>
          <a:xfrm>
            <a:off x="6407280" y="396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5824440" y="4433760"/>
            <a:ext cx="352440" cy="360"/>
            <a:chOff x="5824440" y="4433760"/>
            <a:chExt cx="352440" cy="360"/>
          </a:xfrm>
        </p:grpSpPr>
        <p:sp>
          <p:nvSpPr>
            <p:cNvPr id="1198" name="Line 25"/>
            <p:cNvSpPr/>
            <p:nvPr/>
          </p:nvSpPr>
          <p:spPr>
            <a:xfrm>
              <a:off x="5824440" y="443376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 txBox="1"/>
            <p:nvPr/>
          </p:nvSpPr>
          <p:spPr>
            <a:xfrm>
              <a:off x="5824440" y="4433760"/>
              <a:ext cx="352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6175080" y="4329000"/>
            <a:ext cx="360" cy="108000"/>
            <a:chOff x="6175080" y="4329000"/>
            <a:chExt cx="360" cy="108000"/>
          </a:xfrm>
        </p:grpSpPr>
        <p:sp>
          <p:nvSpPr>
            <p:cNvPr id="1201" name="Line 26"/>
            <p:cNvSpPr/>
            <p:nvPr/>
          </p:nvSpPr>
          <p:spPr>
            <a:xfrm flipV="1">
              <a:off x="6175440" y="432900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 txBox="1"/>
            <p:nvPr/>
          </p:nvSpPr>
          <p:spPr>
            <a:xfrm rot="10800000">
              <a:off x="6175080" y="4329000"/>
              <a:ext cx="36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Rectangle 27"/>
          <p:cNvSpPr/>
          <p:nvPr/>
        </p:nvSpPr>
        <p:spPr>
          <a:xfrm>
            <a:off x="6696720" y="34304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28"/>
          <p:cNvSpPr/>
          <p:nvPr/>
        </p:nvSpPr>
        <p:spPr>
          <a:xfrm>
            <a:off x="1979640" y="34304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0" lang="zh-CN" sz="1800" spc="-1" strike="noStrike">
                <a:solidFill>
                  <a:srgbClr val="1c1c1c"/>
                </a:solidFill>
                <a:latin typeface="Comic Sans MS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zh-CN" sz="1800" spc="-1" strike="noStrike">
                <a:solidFill>
                  <a:srgbClr val="1c1c1c"/>
                </a:solidFill>
                <a:latin typeface="Comic Sans MS"/>
                <a:ea typeface="宋体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29"/>
          <p:cNvGrpSpPr/>
          <p:nvPr/>
        </p:nvGrpSpPr>
        <p:grpSpPr>
          <a:xfrm>
            <a:off x="2604960" y="3790800"/>
            <a:ext cx="284040" cy="216000"/>
            <a:chOff x="2604960" y="3790800"/>
            <a:chExt cx="284040" cy="216000"/>
          </a:xfrm>
        </p:grpSpPr>
        <p:grpSp>
          <p:nvGrpSpPr>
            <p:cNvPr id="1206" name=""/>
            <p:cNvGrpSpPr/>
            <p:nvPr/>
          </p:nvGrpSpPr>
          <p:grpSpPr>
            <a:xfrm>
              <a:off x="2604960" y="3790800"/>
              <a:ext cx="142560" cy="216000"/>
              <a:chOff x="2604960" y="3790800"/>
              <a:chExt cx="142560" cy="216000"/>
            </a:xfrm>
          </p:grpSpPr>
          <p:sp>
            <p:nvSpPr>
              <p:cNvPr id="1207" name="Line 30"/>
              <p:cNvSpPr/>
              <p:nvPr/>
            </p:nvSpPr>
            <p:spPr>
              <a:xfrm flipH="1">
                <a:off x="2604960" y="3790800"/>
                <a:ext cx="14256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 txBox="1"/>
              <p:nvPr/>
            </p:nvSpPr>
            <p:spPr>
              <a:xfrm>
                <a:off x="2604960" y="3790800"/>
                <a:ext cx="1425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2747520" y="3790800"/>
              <a:ext cx="141480" cy="216000"/>
              <a:chOff x="2747520" y="3790800"/>
              <a:chExt cx="141480" cy="216000"/>
            </a:xfrm>
          </p:grpSpPr>
          <p:sp>
            <p:nvSpPr>
              <p:cNvPr id="1210" name="Line 31"/>
              <p:cNvSpPr/>
              <p:nvPr/>
            </p:nvSpPr>
            <p:spPr>
              <a:xfrm>
                <a:off x="2747520" y="3790800"/>
                <a:ext cx="1414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 txBox="1"/>
              <p:nvPr/>
            </p:nvSpPr>
            <p:spPr>
              <a:xfrm>
                <a:off x="2747520" y="3790800"/>
                <a:ext cx="14148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Rectangle 32"/>
          <p:cNvSpPr/>
          <p:nvPr/>
        </p:nvSpPr>
        <p:spPr>
          <a:xfrm>
            <a:off x="2268360" y="3965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33"/>
          <p:cNvSpPr/>
          <p:nvPr/>
        </p:nvSpPr>
        <p:spPr>
          <a:xfrm>
            <a:off x="2771640" y="396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2219400" y="4433760"/>
            <a:ext cx="295200" cy="360"/>
            <a:chOff x="2219400" y="4433760"/>
            <a:chExt cx="295200" cy="360"/>
          </a:xfrm>
        </p:grpSpPr>
        <p:sp>
          <p:nvSpPr>
            <p:cNvPr id="1215" name="Line 34"/>
            <p:cNvSpPr/>
            <p:nvPr/>
          </p:nvSpPr>
          <p:spPr>
            <a:xfrm>
              <a:off x="2219400" y="4433760"/>
              <a:ext cx="295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 txBox="1"/>
            <p:nvPr/>
          </p:nvSpPr>
          <p:spPr>
            <a:xfrm>
              <a:off x="2219400" y="4433760"/>
              <a:ext cx="29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2215800" y="3790440"/>
            <a:ext cx="360" cy="652680"/>
            <a:chOff x="2215800" y="3790440"/>
            <a:chExt cx="360" cy="652680"/>
          </a:xfrm>
        </p:grpSpPr>
        <p:sp>
          <p:nvSpPr>
            <p:cNvPr id="1218" name="Line 35"/>
            <p:cNvSpPr/>
            <p:nvPr/>
          </p:nvSpPr>
          <p:spPr>
            <a:xfrm flipV="1">
              <a:off x="2216160" y="3790440"/>
              <a:ext cx="0" cy="6526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 txBox="1"/>
            <p:nvPr/>
          </p:nvSpPr>
          <p:spPr>
            <a:xfrm rot="10800000">
              <a:off x="2215800" y="3790440"/>
              <a:ext cx="360" cy="6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Rectangle 36"/>
          <p:cNvSpPr/>
          <p:nvPr/>
        </p:nvSpPr>
        <p:spPr>
          <a:xfrm>
            <a:off x="2132640" y="4398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2518920" y="4329000"/>
            <a:ext cx="360" cy="108000"/>
            <a:chOff x="2518920" y="4329000"/>
            <a:chExt cx="360" cy="108000"/>
          </a:xfrm>
        </p:grpSpPr>
        <p:sp>
          <p:nvSpPr>
            <p:cNvPr id="1222" name="Line 37"/>
            <p:cNvSpPr/>
            <p:nvPr/>
          </p:nvSpPr>
          <p:spPr>
            <a:xfrm flipV="1">
              <a:off x="2519280" y="432900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 txBox="1"/>
            <p:nvPr/>
          </p:nvSpPr>
          <p:spPr>
            <a:xfrm rot="10800000">
              <a:off x="2518920" y="4329000"/>
              <a:ext cx="36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Rectangle 38"/>
          <p:cNvSpPr/>
          <p:nvPr/>
        </p:nvSpPr>
        <p:spPr>
          <a:xfrm>
            <a:off x="3044160" y="3416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5825880" y="3790800"/>
            <a:ext cx="360" cy="648000"/>
            <a:chOff x="5825880" y="3790800"/>
            <a:chExt cx="360" cy="648000"/>
          </a:xfrm>
        </p:grpSpPr>
        <p:sp>
          <p:nvSpPr>
            <p:cNvPr id="1226" name="Line 35"/>
            <p:cNvSpPr/>
            <p:nvPr/>
          </p:nvSpPr>
          <p:spPr>
            <a:xfrm flipV="1">
              <a:off x="5826240" y="3790800"/>
              <a:ext cx="0" cy="648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 rot="10800000">
              <a:off x="5825880" y="3790800"/>
              <a:ext cx="3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47"/>
          <p:cNvGrpSpPr/>
          <p:nvPr/>
        </p:nvGrpSpPr>
        <p:grpSpPr>
          <a:xfrm>
            <a:off x="182520" y="2379600"/>
            <a:ext cx="3603600" cy="1212840"/>
            <a:chOff x="182520" y="2379600"/>
            <a:chExt cx="3603600" cy="1212840"/>
          </a:xfrm>
        </p:grpSpPr>
        <p:pic>
          <p:nvPicPr>
            <p:cNvPr id="1229" name="Picture 2" descr="C:\Documents and Settings\Administrator\桌面\人\t01cd44f4a8bab65945.jpgt01cd44f4a8bab65945"/>
            <p:cNvPicPr/>
            <p:nvPr/>
          </p:nvPicPr>
          <p:blipFill>
            <a:blip r:embed="rId1"/>
            <a:stretch/>
          </p:blipFill>
          <p:spPr>
            <a:xfrm>
              <a:off x="182520" y="2428560"/>
              <a:ext cx="97704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AutoShape 27"/>
            <p:cNvSpPr/>
            <p:nvPr/>
          </p:nvSpPr>
          <p:spPr>
            <a:xfrm>
              <a:off x="1403640" y="2379600"/>
              <a:ext cx="2382480" cy="693720"/>
            </a:xfrm>
            <a:prstGeom prst="wedgeRoundRectCallout">
              <a:avLst>
                <a:gd name="adj1" fmla="val -58231"/>
                <a:gd name="adj2" fmla="val 448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今天学习的都是两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数加两位数的口算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组合 44"/>
          <p:cNvGrpSpPr/>
          <p:nvPr/>
        </p:nvGrpSpPr>
        <p:grpSpPr>
          <a:xfrm>
            <a:off x="2357280" y="441360"/>
            <a:ext cx="6286320" cy="1297080"/>
            <a:chOff x="2357280" y="441360"/>
            <a:chExt cx="6286320" cy="1297080"/>
          </a:xfrm>
        </p:grpSpPr>
        <p:sp>
          <p:nvSpPr>
            <p:cNvPr id="1232" name="AutoShape 27"/>
            <p:cNvSpPr/>
            <p:nvPr/>
          </p:nvSpPr>
          <p:spPr>
            <a:xfrm>
              <a:off x="2357280" y="1000080"/>
              <a:ext cx="4878720" cy="714600"/>
            </a:xfrm>
            <a:prstGeom prst="wedgeRoundRectCallout">
              <a:avLst>
                <a:gd name="adj1" fmla="val 55995"/>
                <a:gd name="adj2" fmla="val -12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刚才学习的这两道题有什么相同点和不同点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Picture 2" descr="D:\我的文档-桌面-收藏夹\桌面\17.jpg"/>
            <p:cNvPicPr/>
            <p:nvPr/>
          </p:nvPicPr>
          <p:blipFill>
            <a:blip r:embed="rId2"/>
            <a:stretch/>
          </p:blipFill>
          <p:spPr>
            <a:xfrm flipH="1">
              <a:off x="7500600" y="441360"/>
              <a:ext cx="114300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49"/>
          <p:cNvGrpSpPr/>
          <p:nvPr/>
        </p:nvGrpSpPr>
        <p:grpSpPr>
          <a:xfrm>
            <a:off x="4429080" y="1857240"/>
            <a:ext cx="3854520" cy="1214640"/>
            <a:chOff x="4429080" y="1857240"/>
            <a:chExt cx="3854520" cy="1214640"/>
          </a:xfrm>
        </p:grpSpPr>
        <p:sp>
          <p:nvSpPr>
            <p:cNvPr id="1235" name="AutoShape 27"/>
            <p:cNvSpPr/>
            <p:nvPr/>
          </p:nvSpPr>
          <p:spPr>
            <a:xfrm>
              <a:off x="4429080" y="1990440"/>
              <a:ext cx="2714760" cy="693720"/>
            </a:xfrm>
            <a:prstGeom prst="wedgeRoundRectCallout">
              <a:avLst>
                <a:gd name="adj1" fmla="val 55564"/>
                <a:gd name="adj2" fmla="val -11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5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4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是不进位的加法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4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是进位的加法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Picture 4" descr="C:\Documents and Settings\Administrator\桌面\人\小男孩2.tif小男孩2"/>
            <p:cNvPicPr/>
            <p:nvPr/>
          </p:nvPicPr>
          <p:blipFill>
            <a:blip r:embed="rId3"/>
            <a:stretch/>
          </p:blipFill>
          <p:spPr>
            <a:xfrm>
              <a:off x="7560360" y="1857240"/>
              <a:ext cx="723240" cy="12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组合 51"/>
          <p:cNvGrpSpPr/>
          <p:nvPr/>
        </p:nvGrpSpPr>
        <p:grpSpPr>
          <a:xfrm>
            <a:off x="554040" y="4964040"/>
            <a:ext cx="3552840" cy="1197360"/>
            <a:chOff x="554040" y="4964040"/>
            <a:chExt cx="3552840" cy="1197360"/>
          </a:xfrm>
        </p:grpSpPr>
        <p:sp>
          <p:nvSpPr>
            <p:cNvPr id="1238" name="AutoShape 27"/>
            <p:cNvSpPr/>
            <p:nvPr/>
          </p:nvSpPr>
          <p:spPr>
            <a:xfrm>
              <a:off x="1763280" y="5171760"/>
              <a:ext cx="2343600" cy="989640"/>
            </a:xfrm>
            <a:prstGeom prst="wedgeRoundRectCallout">
              <a:avLst>
                <a:gd name="adj1" fmla="val -57217"/>
                <a:gd name="adj2" fmla="val 99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两位数加两位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口算在计算时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注意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9" name="Picture 2" descr="D:\我的文档-桌面-收藏夹\桌面\17.jpg"/>
            <p:cNvPicPr/>
            <p:nvPr/>
          </p:nvPicPr>
          <p:blipFill>
            <a:blip r:embed="rId4"/>
            <a:stretch/>
          </p:blipFill>
          <p:spPr>
            <a:xfrm>
              <a:off x="554040" y="4964040"/>
              <a:ext cx="1017000" cy="115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0" name="组合 53"/>
          <p:cNvGrpSpPr/>
          <p:nvPr/>
        </p:nvGrpSpPr>
        <p:grpSpPr>
          <a:xfrm>
            <a:off x="4643280" y="4643280"/>
            <a:ext cx="3989160" cy="1743120"/>
            <a:chOff x="4643280" y="4643280"/>
            <a:chExt cx="3989160" cy="1743120"/>
          </a:xfrm>
        </p:grpSpPr>
        <p:sp>
          <p:nvSpPr>
            <p:cNvPr id="1241" name="AutoShape 27"/>
            <p:cNvSpPr/>
            <p:nvPr/>
          </p:nvSpPr>
          <p:spPr>
            <a:xfrm>
              <a:off x="4643280" y="4941720"/>
              <a:ext cx="2811600" cy="693720"/>
            </a:xfrm>
            <a:prstGeom prst="wedgeRoundRectCallout">
              <a:avLst>
                <a:gd name="adj1" fmla="val 57421"/>
                <a:gd name="adj2" fmla="val -25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个位相加满十，一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要向十位进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2" name="Picture 5" descr="D:\我的文档-桌面-收藏夹\桌面\9.jpg"/>
            <p:cNvPicPr/>
            <p:nvPr/>
          </p:nvPicPr>
          <p:blipFill>
            <a:blip r:embed="rId5"/>
            <a:stretch/>
          </p:blipFill>
          <p:spPr>
            <a:xfrm flipH="1">
              <a:off x="7714800" y="4643280"/>
              <a:ext cx="917640" cy="174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3" name="Text Box 7"/>
          <p:cNvSpPr/>
          <p:nvPr/>
        </p:nvSpPr>
        <p:spPr>
          <a:xfrm>
            <a:off x="716040" y="114480"/>
            <a:ext cx="20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omic Sans MS"/>
                <a:ea typeface="宋体"/>
              </a:rPr>
              <a:t>观察对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组合 2"/>
          <p:cNvGrpSpPr/>
          <p:nvPr/>
        </p:nvGrpSpPr>
        <p:grpSpPr>
          <a:xfrm>
            <a:off x="0" y="101520"/>
            <a:ext cx="2739960" cy="525600"/>
            <a:chOff x="0" y="101520"/>
            <a:chExt cx="2739960" cy="525600"/>
          </a:xfrm>
        </p:grpSpPr>
        <p:pic>
          <p:nvPicPr>
            <p:cNvPr id="1245" name="圆角矩形 17" descr=""/>
            <p:cNvPicPr/>
            <p:nvPr/>
          </p:nvPicPr>
          <p:blipFill>
            <a:blip r:embed="rId6"/>
            <a:stretch/>
          </p:blipFill>
          <p:spPr>
            <a:xfrm>
              <a:off x="122760" y="101520"/>
              <a:ext cx="2617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6" name="组合 4"/>
            <p:cNvGrpSpPr/>
            <p:nvPr/>
          </p:nvGrpSpPr>
          <p:grpSpPr>
            <a:xfrm>
              <a:off x="0" y="197280"/>
              <a:ext cx="361440" cy="272160"/>
              <a:chOff x="0" y="197280"/>
              <a:chExt cx="361440" cy="272160"/>
            </a:xfrm>
          </p:grpSpPr>
          <p:sp>
            <p:nvSpPr>
              <p:cNvPr id="1247" name="椭圆 18"/>
              <p:cNvSpPr/>
              <p:nvPr/>
            </p:nvSpPr>
            <p:spPr>
              <a:xfrm rot="16200000">
                <a:off x="228600" y="361080"/>
                <a:ext cx="93600" cy="11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8" name="椭圆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161640" y="339480"/>
                <a:ext cx="19980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椭圆 36"/>
              <p:cNvSpPr/>
              <p:nvPr/>
            </p:nvSpPr>
            <p:spPr>
              <a:xfrm rot="16200000">
                <a:off x="228600" y="241200"/>
                <a:ext cx="93600" cy="11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0" name="椭圆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161640" y="213480"/>
                <a:ext cx="19980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圆角矩形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57840"/>
                <a:ext cx="2908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2" name="圆角矩形 39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26160"/>
                <a:ext cx="2908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圆角矩形 40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228600"/>
                <a:ext cx="2908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圆角矩形 41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197280"/>
                <a:ext cx="29088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"/>
                            </p:stCondLst>
                            <p:childTnLst>
                              <p:par>
                                <p:cTn id="2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"/>
                            </p:stCondLst>
                            <p:childTnLst>
                              <p:par>
                                <p:cTn id="2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文本框 1"/>
          <p:cNvSpPr/>
          <p:nvPr/>
        </p:nvSpPr>
        <p:spPr>
          <a:xfrm>
            <a:off x="1933560" y="719280"/>
            <a:ext cx="5578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两位数加两位数的口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12"/>
          <p:cNvSpPr/>
          <p:nvPr/>
        </p:nvSpPr>
        <p:spPr>
          <a:xfrm>
            <a:off x="662040" y="1409760"/>
            <a:ext cx="791676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算两位数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两位数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可以把其中一个加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分成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整十数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一位数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先用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两位数加整十数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或一位数），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再加一位数（或整十数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；也可以把两位数都分成整十数和一位数，先把整十数和一位数分别相加，再把两个和相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5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6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8" name="Rectangle 64"/>
          <p:cNvSpPr/>
          <p:nvPr/>
        </p:nvSpPr>
        <p:spPr>
          <a:xfrm>
            <a:off x="501480" y="222120"/>
            <a:ext cx="245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19"/>
          <p:cNvSpPr/>
          <p:nvPr/>
        </p:nvSpPr>
        <p:spPr>
          <a:xfrm>
            <a:off x="71280" y="712800"/>
            <a:ext cx="9358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请你利用主题图中的信息完成下面的题目，并说说你是怎样计算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组合 23"/>
          <p:cNvGrpSpPr/>
          <p:nvPr/>
        </p:nvGrpSpPr>
        <p:grpSpPr>
          <a:xfrm>
            <a:off x="546120" y="2120760"/>
            <a:ext cx="5394240" cy="1163880"/>
            <a:chOff x="546120" y="2120760"/>
            <a:chExt cx="5394240" cy="1163880"/>
          </a:xfrm>
        </p:grpSpPr>
        <p:sp>
          <p:nvSpPr>
            <p:cNvPr id="1271" name="AutoShape 27"/>
            <p:cNvSpPr/>
            <p:nvPr/>
          </p:nvSpPr>
          <p:spPr>
            <a:xfrm>
              <a:off x="2122920" y="2503800"/>
              <a:ext cx="3817440" cy="397080"/>
            </a:xfrm>
            <a:prstGeom prst="wedgeRoundRectCallout">
              <a:avLst>
                <a:gd name="adj1" fmla="val -56523"/>
                <a:gd name="adj2" fmla="val 44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三年级一共要买多少张车票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2" name="Picture 2" descr="C:\Documents and Settings\Administrator\桌面\人\8.gif8"/>
            <p:cNvPicPr/>
            <p:nvPr/>
          </p:nvPicPr>
          <p:blipFill>
            <a:blip r:embed="rId8"/>
            <a:stretch/>
          </p:blipFill>
          <p:spPr>
            <a:xfrm>
              <a:off x="546120" y="2120760"/>
              <a:ext cx="1107720" cy="116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3" name="组合 24"/>
          <p:cNvGrpSpPr/>
          <p:nvPr/>
        </p:nvGrpSpPr>
        <p:grpSpPr>
          <a:xfrm>
            <a:off x="2425680" y="3232080"/>
            <a:ext cx="5083200" cy="1214640"/>
            <a:chOff x="2425680" y="3232080"/>
            <a:chExt cx="5083200" cy="1214640"/>
          </a:xfrm>
        </p:grpSpPr>
        <p:sp>
          <p:nvSpPr>
            <p:cNvPr id="1274" name="AutoShape 27"/>
            <p:cNvSpPr/>
            <p:nvPr/>
          </p:nvSpPr>
          <p:spPr>
            <a:xfrm>
              <a:off x="2425680" y="3587040"/>
              <a:ext cx="3816000" cy="397080"/>
            </a:xfrm>
            <a:prstGeom prst="wedgeRoundRectCallout">
              <a:avLst>
                <a:gd name="adj1" fmla="val 54175"/>
                <a:gd name="adj2" fmla="val -43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四年级一共要买多少张车票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5" name="Picture 4" descr="C:\Documents and Settings\Administrator\桌面\人\跳舞小女孩.tif跳舞小女孩"/>
            <p:cNvPicPr/>
            <p:nvPr/>
          </p:nvPicPr>
          <p:blipFill>
            <a:blip r:embed="rId9"/>
            <a:stretch/>
          </p:blipFill>
          <p:spPr>
            <a:xfrm>
              <a:off x="6651000" y="3232080"/>
              <a:ext cx="857880" cy="12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6" name="组合 25"/>
          <p:cNvGrpSpPr/>
          <p:nvPr/>
        </p:nvGrpSpPr>
        <p:grpSpPr>
          <a:xfrm>
            <a:off x="1143000" y="4640400"/>
            <a:ext cx="5299200" cy="1215720"/>
            <a:chOff x="1143000" y="4640400"/>
            <a:chExt cx="5299200" cy="1215720"/>
          </a:xfrm>
        </p:grpSpPr>
        <p:sp>
          <p:nvSpPr>
            <p:cNvPr id="1277" name="AutoShape 27"/>
            <p:cNvSpPr/>
            <p:nvPr/>
          </p:nvSpPr>
          <p:spPr>
            <a:xfrm>
              <a:off x="2715840" y="4640400"/>
              <a:ext cx="3726360" cy="397080"/>
            </a:xfrm>
            <a:prstGeom prst="wedgeRoundRectCallout">
              <a:avLst>
                <a:gd name="adj1" fmla="val -64351"/>
                <a:gd name="adj2" fmla="val 3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你能提出其他数学问题并解答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8" name="Picture 2" descr="D:\我的文档-桌面-收藏夹\桌面\17.jpg"/>
            <p:cNvPicPr/>
            <p:nvPr/>
          </p:nvPicPr>
          <p:blipFill>
            <a:blip r:embed="rId10"/>
            <a:stretch/>
          </p:blipFill>
          <p:spPr>
            <a:xfrm>
              <a:off x="1143000" y="4640400"/>
              <a:ext cx="1212480" cy="121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 Box 55"/>
          <p:cNvSpPr/>
          <p:nvPr/>
        </p:nvSpPr>
        <p:spPr>
          <a:xfrm>
            <a:off x="1832040" y="130176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3  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3059280" y="1212840"/>
          <a:ext cx="649080" cy="2592360"/>
        </p:xfrm>
        <a:graphic>
          <a:graphicData uri="http://schemas.openxmlformats.org/drawingml/2006/table">
            <a:tbl>
              <a:tblPr/>
              <a:tblGrid>
                <a:gridCol w="649080"/>
              </a:tblGrid>
              <a:tr h="647640">
                <a:tc>
                  <a:txBody>
                    <a:bodyPr lIns="91800" rIns="91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1800" rIns="91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1" name="Text Box 55"/>
          <p:cNvSpPr/>
          <p:nvPr/>
        </p:nvSpPr>
        <p:spPr>
          <a:xfrm>
            <a:off x="1832040" y="3267000"/>
            <a:ext cx="31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44  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57"/>
          <p:cNvSpPr/>
          <p:nvPr/>
        </p:nvSpPr>
        <p:spPr>
          <a:xfrm>
            <a:off x="1832040" y="194472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65"/>
          <p:cNvSpPr/>
          <p:nvPr/>
        </p:nvSpPr>
        <p:spPr>
          <a:xfrm>
            <a:off x="1832040" y="2616120"/>
            <a:ext cx="28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2  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72"/>
          <p:cNvSpPr/>
          <p:nvPr/>
        </p:nvSpPr>
        <p:spPr>
          <a:xfrm>
            <a:off x="3039120" y="12841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74"/>
          <p:cNvSpPr/>
          <p:nvPr/>
        </p:nvSpPr>
        <p:spPr>
          <a:xfrm flipH="1">
            <a:off x="3090960" y="1974960"/>
            <a:ext cx="68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1822320" y="1281240"/>
          <a:ext cx="647640" cy="259236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7" name="TextBox 10"/>
          <p:cNvSpPr/>
          <p:nvPr/>
        </p:nvSpPr>
        <p:spPr>
          <a:xfrm>
            <a:off x="946080" y="2252520"/>
            <a:ext cx="93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11"/>
          <p:cNvSpPr/>
          <p:nvPr/>
        </p:nvSpPr>
        <p:spPr>
          <a:xfrm>
            <a:off x="2484360" y="2252520"/>
            <a:ext cx="62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55"/>
          <p:cNvSpPr/>
          <p:nvPr/>
        </p:nvSpPr>
        <p:spPr>
          <a:xfrm>
            <a:off x="4740120" y="3267000"/>
            <a:ext cx="292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62  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57"/>
          <p:cNvSpPr/>
          <p:nvPr/>
        </p:nvSpPr>
        <p:spPr>
          <a:xfrm>
            <a:off x="4649760" y="1974960"/>
            <a:ext cx="309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65"/>
          <p:cNvSpPr/>
          <p:nvPr/>
        </p:nvSpPr>
        <p:spPr>
          <a:xfrm>
            <a:off x="4740120" y="2616120"/>
            <a:ext cx="292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56  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2" name=""/>
          <p:cNvGraphicFramePr/>
          <p:nvPr/>
        </p:nvGraphicFramePr>
        <p:xfrm>
          <a:off x="4724280" y="1281240"/>
          <a:ext cx="647640" cy="259236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3" name="Text Box 55"/>
          <p:cNvSpPr/>
          <p:nvPr/>
        </p:nvSpPr>
        <p:spPr>
          <a:xfrm>
            <a:off x="4649760" y="1332000"/>
            <a:ext cx="301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8  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4" name=""/>
          <p:cNvGraphicFramePr/>
          <p:nvPr/>
        </p:nvGraphicFramePr>
        <p:xfrm>
          <a:off x="6715080" y="1281240"/>
          <a:ext cx="647640" cy="259236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TextBox 18"/>
          <p:cNvSpPr/>
          <p:nvPr/>
        </p:nvSpPr>
        <p:spPr>
          <a:xfrm>
            <a:off x="5003640" y="2252520"/>
            <a:ext cx="187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宋体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Box 19"/>
          <p:cNvSpPr/>
          <p:nvPr/>
        </p:nvSpPr>
        <p:spPr>
          <a:xfrm>
            <a:off x="6156360" y="2235240"/>
            <a:ext cx="6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72"/>
          <p:cNvSpPr/>
          <p:nvPr/>
        </p:nvSpPr>
        <p:spPr>
          <a:xfrm>
            <a:off x="3099600" y="26161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72"/>
          <p:cNvSpPr/>
          <p:nvPr/>
        </p:nvSpPr>
        <p:spPr>
          <a:xfrm>
            <a:off x="3099600" y="326700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72"/>
          <p:cNvSpPr/>
          <p:nvPr/>
        </p:nvSpPr>
        <p:spPr>
          <a:xfrm>
            <a:off x="6694560" y="1301760"/>
            <a:ext cx="59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72"/>
          <p:cNvSpPr/>
          <p:nvPr/>
        </p:nvSpPr>
        <p:spPr>
          <a:xfrm>
            <a:off x="6702480" y="197496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72"/>
          <p:cNvSpPr/>
          <p:nvPr/>
        </p:nvSpPr>
        <p:spPr>
          <a:xfrm>
            <a:off x="6774480" y="26161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72"/>
          <p:cNvSpPr/>
          <p:nvPr/>
        </p:nvSpPr>
        <p:spPr>
          <a:xfrm>
            <a:off x="6774480" y="326700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组合 31"/>
          <p:cNvGrpSpPr/>
          <p:nvPr/>
        </p:nvGrpSpPr>
        <p:grpSpPr>
          <a:xfrm>
            <a:off x="3414600" y="4494240"/>
            <a:ext cx="4907160" cy="1149480"/>
            <a:chOff x="3414600" y="4494240"/>
            <a:chExt cx="4907160" cy="1149480"/>
          </a:xfrm>
        </p:grpSpPr>
        <p:sp>
          <p:nvSpPr>
            <p:cNvPr id="1304" name="AutoShape 27"/>
            <p:cNvSpPr/>
            <p:nvPr/>
          </p:nvSpPr>
          <p:spPr>
            <a:xfrm>
              <a:off x="3414600" y="4609440"/>
              <a:ext cx="3657960" cy="693720"/>
            </a:xfrm>
            <a:prstGeom prst="wedgeRoundRectCallout">
              <a:avLst>
                <a:gd name="adj1" fmla="val 55949"/>
                <a:gd name="adj2" fmla="val -89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两位数加两位数，如果个位相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满十了，别忘了要向十位进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5" name="Picture 2" descr="C:\Documents and Settings\Administrator\桌面\人\小男孩5.jpg小男孩5"/>
            <p:cNvPicPr/>
            <p:nvPr/>
          </p:nvPicPr>
          <p:blipFill>
            <a:blip r:embed="rId1"/>
            <a:stretch/>
          </p:blipFill>
          <p:spPr>
            <a:xfrm>
              <a:off x="7609320" y="4494240"/>
              <a:ext cx="712440" cy="114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07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30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0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3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4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5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6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17" name="Text Box 3"/>
          <p:cNvSpPr/>
          <p:nvPr/>
        </p:nvSpPr>
        <p:spPr>
          <a:xfrm>
            <a:off x="533520" y="1094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26:07Z</dcterms:created>
  <dc:creator/>
  <dc:description/>
  <dc:language>en-US</dc:language>
  <cp:lastModifiedBy>万润仪器贸易公司</cp:lastModifiedBy>
  <dcterms:modified xsi:type="dcterms:W3CDTF">2020-08-21T01:14:53Z</dcterms:modified>
  <cp:revision>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